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1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3652920" y="5948280"/>
            <a:ext cx="380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rittmitte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 Wissenschaftsstelle (in T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7"/>
          <p:cNvSpPr/>
          <p:nvPr/>
        </p:nvSpPr>
        <p:spPr>
          <a:xfrm>
            <a:off x="70200" y="2878200"/>
            <a:ext cx="181872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grammerfol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Forschung u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ssenstransf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 Wissenschaftsst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8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9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31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14_AR_NRW_LFB_FE_FH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5_AR_NRW_LFB_FE_FH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Ingenieur- und Wirtschaft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9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1762200" y="1150920"/>
            <a:ext cx="74851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0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1762200" y="1150920"/>
            <a:ext cx="748512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5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im Analyseraster 2013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1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Mathematik, Natur-, Wirtschafts- und Sozialwissenschaften,</a:t>
            </a:r>
            <a:br>
              <a:rPr sz="2600"/>
            </a:b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Design, Sprach-, Ernährungs- und Information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ziehungs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2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1762200" y="1150920"/>
            <a:ext cx="753912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2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5"/>
          <p:cNvSpPr/>
          <p:nvPr/>
        </p:nvSpPr>
        <p:spPr>
          <a:xfrm>
            <a:off x="162720" y="352440"/>
            <a:ext cx="2919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. Kommuni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tionswissenschaften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1582560" y="1150920"/>
            <a:ext cx="77425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1755720" y="1150920"/>
            <a:ext cx="7569360" cy="47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5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im Analyseraster 2013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1762200" y="1150920"/>
            <a:ext cx="755172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154764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tschafts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0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1762200" y="1150920"/>
            <a:ext cx="748512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1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154764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1619280" y="1150920"/>
            <a:ext cx="76658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1697040" y="1150920"/>
            <a:ext cx="76280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undheits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7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1883880" y="1409760"/>
            <a:ext cx="7207560" cy="4442760"/>
            <a:chOff x="1883880" y="1409760"/>
            <a:chExt cx="7207560" cy="4442760"/>
          </a:xfrm>
        </p:grpSpPr>
        <p:grpSp>
          <p:nvGrpSpPr>
            <p:cNvPr id="184" name=""/>
            <p:cNvGrpSpPr/>
            <p:nvPr/>
          </p:nvGrpSpPr>
          <p:grpSpPr>
            <a:xfrm>
              <a:off x="2133360" y="1488960"/>
              <a:ext cx="6865200" cy="4087800"/>
              <a:chOff x="2133360" y="1488960"/>
              <a:chExt cx="6865200" cy="4087800"/>
            </a:xfrm>
          </p:grpSpPr>
          <p:sp>
            <p:nvSpPr>
              <p:cNvPr id="185" name=""/>
              <p:cNvSpPr/>
              <p:nvPr/>
            </p:nvSpPr>
            <p:spPr>
              <a:xfrm>
                <a:off x="2133360" y="1488960"/>
                <a:ext cx="6865200" cy="40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133360" y="5576760"/>
                <a:ext cx="68652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133360" y="5065560"/>
                <a:ext cx="68652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133360" y="4554360"/>
                <a:ext cx="68652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133360" y="4043520"/>
                <a:ext cx="68652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133360" y="3533760"/>
                <a:ext cx="68652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133360" y="3022560"/>
                <a:ext cx="68652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133360" y="2511360"/>
                <a:ext cx="68652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133360" y="2000160"/>
                <a:ext cx="68652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133360" y="1488960"/>
                <a:ext cx="68652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133360" y="1488960"/>
                <a:ext cx="0" cy="4087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277800" y="1488960"/>
                <a:ext cx="0" cy="4087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421160" y="1488960"/>
                <a:ext cx="0" cy="4087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565960" y="1488960"/>
                <a:ext cx="0" cy="4087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10400" y="1488960"/>
                <a:ext cx="0" cy="4087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855560" y="1488960"/>
                <a:ext cx="0" cy="4087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98560" y="1488960"/>
                <a:ext cx="0" cy="4087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133360" y="1488960"/>
                <a:ext cx="6865200" cy="408780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880600" y="1488960"/>
                <a:ext cx="0" cy="4087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9920" y="5576760"/>
                <a:ext cx="40320" cy="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839920" y="5065560"/>
                <a:ext cx="40320" cy="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39920" y="4554360"/>
                <a:ext cx="40320" cy="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39920" y="4043520"/>
                <a:ext cx="40320" cy="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9920" y="3533760"/>
                <a:ext cx="40320" cy="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39920" y="3022560"/>
                <a:ext cx="40320" cy="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39920" y="2511360"/>
                <a:ext cx="40320" cy="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39920" y="2000160"/>
                <a:ext cx="40320" cy="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839920" y="1488960"/>
                <a:ext cx="40320" cy="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133360" y="3987720"/>
                <a:ext cx="6865200" cy="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2133360" y="3987360"/>
                <a:ext cx="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3277800" y="3987360"/>
                <a:ext cx="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421160" y="3987360"/>
                <a:ext cx="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5565960" y="3987360"/>
                <a:ext cx="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710400" y="3987360"/>
                <a:ext cx="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855560" y="3987360"/>
                <a:ext cx="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8998560" y="3987360"/>
                <a:ext cx="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095640" y="1646280"/>
                <a:ext cx="362880" cy="369720"/>
              </a:xfrm>
              <a:prstGeom prst="ellipse">
                <a:avLst/>
              </a:prstGeom>
              <a:solidFill>
                <a:srgbClr val="00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97440" y="1646280"/>
                <a:ext cx="359280" cy="366840"/>
              </a:xfrm>
              <a:prstGeom prst="ellipse">
                <a:avLst/>
              </a:prstGeom>
              <a:solidFill>
                <a:srgbClr val="00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098880" y="1647720"/>
                <a:ext cx="354960" cy="362160"/>
              </a:xfrm>
              <a:prstGeom prst="ellipse">
                <a:avLst/>
              </a:prstGeom>
              <a:solidFill>
                <a:srgbClr val="00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100680" y="1649520"/>
                <a:ext cx="351720" cy="358560"/>
              </a:xfrm>
              <a:prstGeom prst="ellipse">
                <a:avLst/>
              </a:prstGeom>
              <a:solidFill>
                <a:srgbClr val="00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00680" y="1650960"/>
                <a:ext cx="348480" cy="353880"/>
              </a:xfrm>
              <a:prstGeom prst="ellipse">
                <a:avLst/>
              </a:prstGeom>
              <a:solidFill>
                <a:srgbClr val="00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02120" y="1652760"/>
                <a:ext cx="344160" cy="350640"/>
              </a:xfrm>
              <a:prstGeom prst="ellipse">
                <a:avLst/>
              </a:prstGeom>
              <a:solidFill>
                <a:srgbClr val="002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03200" y="1652760"/>
                <a:ext cx="340920" cy="347400"/>
              </a:xfrm>
              <a:prstGeom prst="ellipse">
                <a:avLst/>
              </a:prstGeom>
              <a:solidFill>
                <a:srgbClr val="00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05000" y="1654200"/>
                <a:ext cx="335880" cy="344520"/>
              </a:xfrm>
              <a:prstGeom prst="ellipse">
                <a:avLst/>
              </a:prstGeom>
              <a:solidFill>
                <a:srgbClr val="00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06440" y="1655640"/>
                <a:ext cx="333360" cy="33984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106440" y="1657440"/>
                <a:ext cx="330120" cy="33480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108240" y="1658880"/>
                <a:ext cx="325080" cy="331920"/>
              </a:xfrm>
              <a:prstGeom prst="ellipse">
                <a:avLst/>
              </a:prstGeom>
              <a:solidFill>
                <a:srgbClr val="0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109680" y="1658880"/>
                <a:ext cx="322200" cy="32868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11480" y="1660680"/>
                <a:ext cx="317160" cy="32544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112920" y="1662120"/>
                <a:ext cx="314640" cy="320760"/>
              </a:xfrm>
              <a:prstGeom prst="ellipse">
                <a:avLst/>
              </a:prstGeom>
              <a:solidFill>
                <a:srgbClr val="002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112920" y="1663560"/>
                <a:ext cx="311400" cy="31608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14360" y="1665360"/>
                <a:ext cx="308160" cy="31284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16160" y="1665360"/>
                <a:ext cx="303480" cy="309600"/>
              </a:xfrm>
              <a:prstGeom prst="ellipse">
                <a:avLst/>
              </a:prstGeom>
              <a:solidFill>
                <a:srgbClr val="002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17600" y="1666800"/>
                <a:ext cx="298800" cy="30636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119400" y="1668600"/>
                <a:ext cx="295560" cy="30132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19400" y="1670040"/>
                <a:ext cx="292680" cy="298440"/>
              </a:xfrm>
              <a:prstGeom prst="ellipse">
                <a:avLst/>
              </a:prstGeom>
              <a:solidFill>
                <a:srgbClr val="0029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120840" y="1671480"/>
                <a:ext cx="289440" cy="293760"/>
              </a:xfrm>
              <a:prstGeom prst="ellipse">
                <a:avLst/>
              </a:prstGeom>
              <a:solidFill>
                <a:srgbClr val="00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21920" y="1671480"/>
                <a:ext cx="284760" cy="290520"/>
              </a:xfrm>
              <a:prstGeom prst="ellipse">
                <a:avLst/>
              </a:prstGeom>
              <a:solidFill>
                <a:srgbClr val="002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23720" y="1673280"/>
                <a:ext cx="280080" cy="287280"/>
              </a:xfrm>
              <a:prstGeom prst="ellipse">
                <a:avLst/>
              </a:prstGeom>
              <a:solidFill>
                <a:srgbClr val="002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25160" y="1674720"/>
                <a:ext cx="277200" cy="282600"/>
              </a:xfrm>
              <a:prstGeom prst="ellipse">
                <a:avLst/>
              </a:prstGeom>
              <a:solidFill>
                <a:srgbClr val="00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25160" y="1676520"/>
                <a:ext cx="273960" cy="279360"/>
              </a:xfrm>
              <a:prstGeom prst="ellipse">
                <a:avLst/>
              </a:prstGeom>
              <a:solidFill>
                <a:srgbClr val="00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26960" y="1676520"/>
                <a:ext cx="270720" cy="276120"/>
              </a:xfrm>
              <a:prstGeom prst="ellipse">
                <a:avLst/>
              </a:prstGeom>
              <a:solidFill>
                <a:srgbClr val="002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28400" y="1677960"/>
                <a:ext cx="266040" cy="271440"/>
              </a:xfrm>
              <a:prstGeom prst="ellipse">
                <a:avLst/>
              </a:prstGeom>
              <a:solidFill>
                <a:srgbClr val="00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29840" y="1679400"/>
                <a:ext cx="261360" cy="268560"/>
              </a:xfrm>
              <a:prstGeom prst="ellipse">
                <a:avLst/>
              </a:prstGeom>
              <a:solidFill>
                <a:srgbClr val="00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29840" y="1681200"/>
                <a:ext cx="260280" cy="263520"/>
              </a:xfrm>
              <a:prstGeom prst="ellipse">
                <a:avLst/>
              </a:prstGeom>
              <a:solidFill>
                <a:srgbClr val="00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31640" y="1682640"/>
                <a:ext cx="255240" cy="260640"/>
              </a:xfrm>
              <a:prstGeom prst="ellipse">
                <a:avLst/>
              </a:prstGeom>
              <a:solidFill>
                <a:srgbClr val="00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133080" y="1682640"/>
                <a:ext cx="252360" cy="257400"/>
              </a:xfrm>
              <a:prstGeom prst="ellipse">
                <a:avLst/>
              </a:prstGeom>
              <a:solidFill>
                <a:srgbClr val="00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34880" y="1684440"/>
                <a:ext cx="247320" cy="25236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36320" y="1685880"/>
                <a:ext cx="244080" cy="24912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136320" y="1687680"/>
                <a:ext cx="241560" cy="244440"/>
              </a:xfrm>
              <a:prstGeom prst="ellipse">
                <a:avLst/>
              </a:prstGeom>
              <a:solidFill>
                <a:srgbClr val="00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38120" y="1689120"/>
                <a:ext cx="236520" cy="24120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39560" y="1689120"/>
                <a:ext cx="233280" cy="23796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140640" y="1690560"/>
                <a:ext cx="228960" cy="235080"/>
              </a:xfrm>
              <a:prstGeom prst="ellipse">
                <a:avLst/>
              </a:prstGeom>
              <a:solidFill>
                <a:srgbClr val="00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142440" y="1692360"/>
                <a:ext cx="225360" cy="23004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42440" y="1693800"/>
                <a:ext cx="222480" cy="22536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143880" y="1695600"/>
                <a:ext cx="218160" cy="222120"/>
              </a:xfrm>
              <a:prstGeom prst="ellipse">
                <a:avLst/>
              </a:prstGeom>
              <a:solidFill>
                <a:srgbClr val="003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145680" y="1695600"/>
                <a:ext cx="214560" cy="21888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147120" y="1697040"/>
                <a:ext cx="209880" cy="21600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148560" y="1698480"/>
                <a:ext cx="207000" cy="211320"/>
              </a:xfrm>
              <a:prstGeom prst="ellipse">
                <a:avLst/>
              </a:prstGeom>
              <a:solidFill>
                <a:srgbClr val="00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148560" y="1700280"/>
                <a:ext cx="204120" cy="206280"/>
              </a:xfrm>
              <a:prstGeom prst="ellipse">
                <a:avLst/>
              </a:prstGeom>
              <a:solidFill>
                <a:srgbClr val="00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150360" y="1701720"/>
                <a:ext cx="200880" cy="203400"/>
              </a:xfrm>
              <a:prstGeom prst="ellipse">
                <a:avLst/>
              </a:prstGeom>
              <a:solidFill>
                <a:srgbClr val="00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151800" y="1701720"/>
                <a:ext cx="196200" cy="200160"/>
              </a:xfrm>
              <a:prstGeom prst="ellipse">
                <a:avLst/>
              </a:prstGeom>
              <a:solidFill>
                <a:srgbClr val="0032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53600" y="1703520"/>
                <a:ext cx="191160" cy="196560"/>
              </a:xfrm>
              <a:prstGeom prst="ellipse">
                <a:avLst/>
              </a:prstGeom>
              <a:solidFill>
                <a:srgbClr val="00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155040" y="1704960"/>
                <a:ext cx="188280" cy="192240"/>
              </a:xfrm>
              <a:prstGeom prst="ellipse">
                <a:avLst/>
              </a:prstGeom>
              <a:solidFill>
                <a:srgbClr val="00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55040" y="1706400"/>
                <a:ext cx="185400" cy="189000"/>
              </a:xfrm>
              <a:prstGeom prst="ellipse">
                <a:avLst/>
              </a:prstGeom>
              <a:solidFill>
                <a:srgbClr val="003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156480" y="1706400"/>
                <a:ext cx="182160" cy="185760"/>
              </a:xfrm>
              <a:prstGeom prst="ellips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158280" y="1708200"/>
                <a:ext cx="177480" cy="181080"/>
              </a:xfrm>
              <a:prstGeom prst="ellipse">
                <a:avLst/>
              </a:prstGeom>
              <a:solidFill>
                <a:srgbClr val="0234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159360" y="1709640"/>
                <a:ext cx="172800" cy="177840"/>
              </a:xfrm>
              <a:prstGeom prst="ellipse">
                <a:avLst/>
              </a:prstGeom>
              <a:solidFill>
                <a:srgbClr val="033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161160" y="1711440"/>
                <a:ext cx="169200" cy="172800"/>
              </a:xfrm>
              <a:prstGeom prst="ellipse">
                <a:avLst/>
              </a:prstGeom>
              <a:solidFill>
                <a:srgbClr val="053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61160" y="1712880"/>
                <a:ext cx="166320" cy="169920"/>
              </a:xfrm>
              <a:prstGeom prst="ellipse">
                <a:avLst/>
              </a:prstGeom>
              <a:solidFill>
                <a:srgbClr val="07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162600" y="1712880"/>
                <a:ext cx="163440" cy="166680"/>
              </a:xfrm>
              <a:prstGeom prst="ellipse">
                <a:avLst/>
              </a:prstGeom>
              <a:solidFill>
                <a:srgbClr val="09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64040" y="1714680"/>
                <a:ext cx="158760" cy="161640"/>
              </a:xfrm>
              <a:prstGeom prst="ellipse">
                <a:avLst/>
              </a:prstGeom>
              <a:solidFill>
                <a:srgbClr val="0a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65840" y="1716120"/>
                <a:ext cx="155520" cy="158760"/>
              </a:xfrm>
              <a:prstGeom prst="ellipse">
                <a:avLst/>
              </a:prstGeom>
              <a:solidFill>
                <a:srgbClr val="0c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65840" y="1717560"/>
                <a:ext cx="152280" cy="154080"/>
              </a:xfrm>
              <a:prstGeom prst="ellipse">
                <a:avLst/>
              </a:prstGeom>
              <a:solidFill>
                <a:srgbClr val="0e3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167280" y="1719360"/>
                <a:ext cx="147960" cy="150840"/>
              </a:xfrm>
              <a:prstGeom prst="ellipse">
                <a:avLst/>
              </a:prstGeom>
              <a:solidFill>
                <a:srgbClr val="103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69080" y="1719360"/>
                <a:ext cx="144720" cy="147600"/>
              </a:xfrm>
              <a:prstGeom prst="ellipse">
                <a:avLst/>
              </a:prstGeom>
              <a:solidFill>
                <a:srgbClr val="114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70520" y="1720800"/>
                <a:ext cx="140040" cy="144360"/>
              </a:xfrm>
              <a:prstGeom prst="ellipse">
                <a:avLst/>
              </a:prstGeom>
              <a:solidFill>
                <a:srgbClr val="134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72320" y="1722600"/>
                <a:ext cx="136800" cy="139680"/>
              </a:xfrm>
              <a:prstGeom prst="ellipse">
                <a:avLst/>
              </a:prstGeom>
              <a:solidFill>
                <a:srgbClr val="1544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72320" y="1724040"/>
                <a:ext cx="133560" cy="135000"/>
              </a:xfrm>
              <a:prstGeom prst="ellipse">
                <a:avLst/>
              </a:prstGeom>
              <a:solidFill>
                <a:srgbClr val="174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173760" y="1725480"/>
                <a:ext cx="129240" cy="131760"/>
              </a:xfrm>
              <a:prstGeom prst="ellipse">
                <a:avLst/>
              </a:prstGeom>
              <a:solidFill>
                <a:srgbClr val="184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175200" y="1725480"/>
                <a:ext cx="126360" cy="128880"/>
              </a:xfrm>
              <a:prstGeom prst="ellipse">
                <a:avLst/>
              </a:prstGeom>
              <a:solidFill>
                <a:srgbClr val="1a4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177000" y="1727280"/>
                <a:ext cx="121320" cy="125280"/>
              </a:xfrm>
              <a:prstGeom prst="ellipse">
                <a:avLst/>
              </a:prstGeom>
              <a:solidFill>
                <a:srgbClr val="1c4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78080" y="1728720"/>
                <a:ext cx="118080" cy="120600"/>
              </a:xfrm>
              <a:prstGeom prst="ellipse">
                <a:avLst/>
              </a:prstGeom>
              <a:solidFill>
                <a:srgbClr val="1d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178080" y="1730520"/>
                <a:ext cx="114840" cy="115920"/>
              </a:xfrm>
              <a:prstGeom prst="ellipse">
                <a:avLst/>
              </a:prstGeom>
              <a:solidFill>
                <a:srgbClr val="1f4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79880" y="1731960"/>
                <a:ext cx="111600" cy="112680"/>
              </a:xfrm>
              <a:prstGeom prst="ellipse">
                <a:avLst/>
              </a:prstGeom>
              <a:solidFill>
                <a:srgbClr val="214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81320" y="1731960"/>
                <a:ext cx="107280" cy="109440"/>
              </a:xfrm>
              <a:prstGeom prst="ellipse">
                <a:avLst/>
              </a:prstGeom>
              <a:solidFill>
                <a:srgbClr val="234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182760" y="1733400"/>
                <a:ext cx="102600" cy="106560"/>
              </a:xfrm>
              <a:prstGeom prst="ellipse">
                <a:avLst/>
              </a:prstGeom>
              <a:solidFill>
                <a:srgbClr val="24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184560" y="1735200"/>
                <a:ext cx="99360" cy="101520"/>
              </a:xfrm>
              <a:prstGeom prst="ellipse">
                <a:avLst/>
              </a:prstGeom>
              <a:solidFill>
                <a:srgbClr val="2652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184560" y="1736640"/>
                <a:ext cx="96120" cy="98640"/>
              </a:xfrm>
              <a:prstGeom prst="ellipse">
                <a:avLst/>
              </a:prstGeom>
              <a:solidFill>
                <a:srgbClr val="28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86000" y="1738440"/>
                <a:ext cx="93240" cy="93600"/>
              </a:xfrm>
              <a:prstGeom prst="ellipse">
                <a:avLst/>
              </a:prstGeom>
              <a:solidFill>
                <a:srgbClr val="2a5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187800" y="1738440"/>
                <a:ext cx="88560" cy="90360"/>
              </a:xfrm>
              <a:prstGeom prst="ellipse">
                <a:avLst/>
              </a:prstGeom>
              <a:solidFill>
                <a:srgbClr val="2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89240" y="1739880"/>
                <a:ext cx="83880" cy="87480"/>
              </a:xfrm>
              <a:prstGeom prst="ellipse">
                <a:avLst/>
              </a:prstGeom>
              <a:solidFill>
                <a:srgbClr val="2d5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190680" y="1741320"/>
                <a:ext cx="81000" cy="82800"/>
              </a:xfrm>
              <a:prstGeom prst="ellipse">
                <a:avLst/>
              </a:prstGeom>
              <a:solidFill>
                <a:srgbClr val="2f5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90680" y="1743120"/>
                <a:ext cx="77760" cy="79200"/>
              </a:xfrm>
              <a:prstGeom prst="ellipse">
                <a:avLst/>
              </a:prstGeom>
              <a:solidFill>
                <a:srgbClr val="315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92480" y="1743120"/>
                <a:ext cx="74520" cy="76320"/>
              </a:xfrm>
              <a:prstGeom prst="ellipse">
                <a:avLst/>
              </a:prstGeom>
              <a:solidFill>
                <a:srgbClr val="325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93920" y="1744560"/>
                <a:ext cx="70200" cy="71640"/>
              </a:xfrm>
              <a:prstGeom prst="ellipse">
                <a:avLst/>
              </a:prstGeom>
              <a:solidFill>
                <a:srgbClr val="34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95720" y="1746360"/>
                <a:ext cx="65160" cy="68040"/>
              </a:xfrm>
              <a:prstGeom prst="ellipse">
                <a:avLst/>
              </a:prstGeom>
              <a:solidFill>
                <a:srgbClr val="365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195720" y="1747800"/>
                <a:ext cx="63360" cy="63360"/>
              </a:xfrm>
              <a:prstGeom prst="ellipse">
                <a:avLst/>
              </a:prstGeom>
              <a:solidFill>
                <a:srgbClr val="38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196800" y="1749600"/>
                <a:ext cx="59040" cy="60120"/>
              </a:xfrm>
              <a:prstGeom prst="ellipse">
                <a:avLst/>
              </a:prstGeom>
              <a:solidFill>
                <a:srgbClr val="396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198240" y="1749600"/>
                <a:ext cx="55800" cy="56880"/>
              </a:xfrm>
              <a:prstGeom prst="ellipse">
                <a:avLst/>
              </a:prstGeom>
              <a:solidFill>
                <a:srgbClr val="3b6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00040" y="1751040"/>
                <a:ext cx="51120" cy="54000"/>
              </a:xfrm>
              <a:prstGeom prst="ellipse">
                <a:avLst/>
              </a:prstGeom>
              <a:solidFill>
                <a:srgbClr val="3d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01480" y="1752480"/>
                <a:ext cx="48240" cy="49320"/>
              </a:xfrm>
              <a:prstGeom prst="ellipse">
                <a:avLst/>
              </a:prstGeom>
              <a:solidFill>
                <a:srgbClr val="3e6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01480" y="1754280"/>
                <a:ext cx="45000" cy="44280"/>
              </a:xfrm>
              <a:prstGeom prst="ellipse">
                <a:avLst/>
              </a:prstGeom>
              <a:solidFill>
                <a:srgbClr val="406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03280" y="1755720"/>
                <a:ext cx="39960" cy="41400"/>
              </a:xfrm>
              <a:prstGeom prst="ellipse">
                <a:avLst/>
              </a:prstGeom>
              <a:solidFill>
                <a:srgbClr val="426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04720" y="1755720"/>
                <a:ext cx="37080" cy="38160"/>
              </a:xfrm>
              <a:prstGeom prst="ellipse">
                <a:avLst/>
              </a:prstGeom>
              <a:solidFill>
                <a:srgbClr val="446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206520" y="1757520"/>
                <a:ext cx="32400" cy="34920"/>
              </a:xfrm>
              <a:prstGeom prst="ellipse">
                <a:avLst/>
              </a:prstGeom>
              <a:solidFill>
                <a:srgbClr val="456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07960" y="1758960"/>
                <a:ext cx="29520" cy="30240"/>
              </a:xfrm>
              <a:prstGeom prst="ellipse">
                <a:avLst/>
              </a:prstGeom>
              <a:solidFill>
                <a:srgbClr val="476c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207960" y="1760400"/>
                <a:ext cx="26280" cy="25560"/>
              </a:xfrm>
              <a:prstGeom prst="ellipse">
                <a:avLst/>
              </a:prstGeom>
              <a:solidFill>
                <a:srgbClr val="496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09400" y="1762200"/>
                <a:ext cx="21600" cy="22320"/>
              </a:xfrm>
              <a:prstGeom prst="ellipse">
                <a:avLst/>
              </a:prstGeom>
              <a:solidFill>
                <a:srgbClr val="4b6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211200" y="1762200"/>
                <a:ext cx="18360" cy="19080"/>
              </a:xfrm>
              <a:prstGeom prst="ellipse">
                <a:avLst/>
              </a:prstGeom>
              <a:solidFill>
                <a:srgbClr val="4c7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12640" y="1763640"/>
                <a:ext cx="14040" cy="15840"/>
              </a:xfrm>
              <a:prstGeom prst="ellipse">
                <a:avLst/>
              </a:prstGeom>
              <a:solidFill>
                <a:srgbClr val="4e7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214440" y="1765440"/>
                <a:ext cx="10440" cy="10800"/>
              </a:xfrm>
              <a:prstGeom prst="ellipse">
                <a:avLst/>
              </a:prstGeom>
              <a:solidFill>
                <a:srgbClr val="507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14440" y="1766880"/>
                <a:ext cx="7560" cy="6480"/>
              </a:xfrm>
              <a:prstGeom prst="ellipse">
                <a:avLst/>
              </a:prstGeom>
              <a:solidFill>
                <a:srgbClr val="527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15520" y="1768320"/>
                <a:ext cx="4320" cy="3240"/>
              </a:xfrm>
              <a:prstGeom prst="ellipse">
                <a:avLst/>
              </a:prstGeom>
              <a:solidFill>
                <a:srgbClr val="537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95640" y="1646280"/>
                <a:ext cx="362880" cy="36972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15360" y="4903920"/>
                <a:ext cx="317160" cy="323640"/>
              </a:xfrm>
              <a:prstGeom prst="ellipse">
                <a:avLst/>
              </a:prstGeom>
              <a:solidFill>
                <a:srgbClr val="00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15360" y="4905360"/>
                <a:ext cx="314280" cy="320760"/>
              </a:xfrm>
              <a:prstGeom prst="ellipse">
                <a:avLst/>
              </a:prstGeom>
              <a:solidFill>
                <a:srgbClr val="00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16800" y="4906800"/>
                <a:ext cx="311400" cy="316080"/>
              </a:xfrm>
              <a:prstGeom prst="ellipse">
                <a:avLst/>
              </a:prstGeom>
              <a:solidFill>
                <a:srgbClr val="00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18240" y="4906800"/>
                <a:ext cx="306720" cy="314640"/>
              </a:xfrm>
              <a:prstGeom prst="ellipse">
                <a:avLst/>
              </a:prstGeom>
              <a:solidFill>
                <a:srgbClr val="00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720040" y="4908600"/>
                <a:ext cx="303480" cy="309600"/>
              </a:xfrm>
              <a:prstGeom prst="ellipse">
                <a:avLst/>
              </a:prstGeom>
              <a:solidFill>
                <a:srgbClr val="002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21480" y="4910040"/>
                <a:ext cx="298800" cy="304920"/>
              </a:xfrm>
              <a:prstGeom prst="ellipse">
                <a:avLst/>
              </a:prstGeom>
              <a:solidFill>
                <a:srgbClr val="00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721480" y="4911840"/>
                <a:ext cx="295920" cy="301680"/>
              </a:xfrm>
              <a:prstGeom prst="ellipse">
                <a:avLst/>
              </a:prstGeom>
              <a:solidFill>
                <a:srgbClr val="00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23280" y="4913280"/>
                <a:ext cx="292680" cy="29700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724720" y="4913280"/>
                <a:ext cx="288000" cy="29520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26160" y="4915080"/>
                <a:ext cx="284760" cy="290160"/>
              </a:xfrm>
              <a:prstGeom prst="ellipse">
                <a:avLst/>
              </a:prstGeom>
              <a:solidFill>
                <a:srgbClr val="0026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726160" y="4916520"/>
                <a:ext cx="281880" cy="28728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27960" y="4917960"/>
                <a:ext cx="278640" cy="282600"/>
              </a:xfrm>
              <a:prstGeom prst="ellipse">
                <a:avLst/>
              </a:prstGeom>
              <a:solidFill>
                <a:srgbClr val="0026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29400" y="4917960"/>
                <a:ext cx="273960" cy="279360"/>
              </a:xfrm>
              <a:prstGeom prst="ellipse">
                <a:avLst/>
              </a:prstGeom>
              <a:solidFill>
                <a:srgbClr val="002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731200" y="4919760"/>
                <a:ext cx="269280" cy="27612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32640" y="4921200"/>
                <a:ext cx="266040" cy="271440"/>
              </a:xfrm>
              <a:prstGeom prst="ellipse">
                <a:avLst/>
              </a:prstGeom>
              <a:solidFill>
                <a:srgbClr val="002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32640" y="4923000"/>
                <a:ext cx="262800" cy="26820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34080" y="4924440"/>
                <a:ext cx="259920" cy="263520"/>
              </a:xfrm>
              <a:prstGeom prst="ellipse">
                <a:avLst/>
              </a:prstGeom>
              <a:solidFill>
                <a:srgbClr val="002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35520" y="4924440"/>
                <a:ext cx="255240" cy="260280"/>
              </a:xfrm>
              <a:prstGeom prst="ellipse">
                <a:avLst/>
              </a:prstGeom>
              <a:solidFill>
                <a:srgbClr val="0029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36960" y="4925880"/>
                <a:ext cx="250560" cy="257400"/>
              </a:xfrm>
              <a:prstGeom prst="ellipse">
                <a:avLst/>
              </a:prstGeom>
              <a:solidFill>
                <a:srgbClr val="00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38760" y="4927680"/>
                <a:ext cx="247320" cy="252360"/>
              </a:xfrm>
              <a:prstGeom prst="ellipse">
                <a:avLst/>
              </a:prstGeom>
              <a:solidFill>
                <a:srgbClr val="002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38760" y="4929120"/>
                <a:ext cx="244080" cy="249480"/>
              </a:xfrm>
              <a:prstGeom prst="ellipse">
                <a:avLst/>
              </a:prstGeom>
              <a:solidFill>
                <a:srgbClr val="00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40200" y="4930920"/>
                <a:ext cx="241560" cy="244440"/>
              </a:xfrm>
              <a:prstGeom prst="ellipse">
                <a:avLst/>
              </a:prstGeom>
              <a:solidFill>
                <a:srgbClr val="00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42000" y="4930920"/>
                <a:ext cx="236520" cy="242640"/>
              </a:xfrm>
              <a:prstGeom prst="ellipse">
                <a:avLst/>
              </a:prstGeom>
              <a:solidFill>
                <a:srgbClr val="002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43440" y="4932360"/>
                <a:ext cx="233280" cy="237960"/>
              </a:xfrm>
              <a:prstGeom prst="ellipse">
                <a:avLst/>
              </a:prstGeom>
              <a:solidFill>
                <a:srgbClr val="00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44880" y="4933800"/>
                <a:ext cx="228960" cy="233640"/>
              </a:xfrm>
              <a:prstGeom prst="ellipse">
                <a:avLst/>
              </a:prstGeom>
              <a:solidFill>
                <a:srgbClr val="00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44880" y="4935600"/>
                <a:ext cx="225720" cy="230040"/>
              </a:xfrm>
              <a:prstGeom prst="ellipse">
                <a:avLst/>
              </a:prstGeom>
              <a:solidFill>
                <a:srgbClr val="00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46680" y="4937040"/>
                <a:ext cx="222480" cy="225360"/>
              </a:xfrm>
              <a:prstGeom prst="ellipse">
                <a:avLst/>
              </a:prstGeom>
              <a:solidFill>
                <a:srgbClr val="00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48120" y="4937040"/>
                <a:ext cx="218160" cy="223920"/>
              </a:xfrm>
              <a:prstGeom prst="ellipse">
                <a:avLst/>
              </a:prstGeom>
              <a:solidFill>
                <a:srgbClr val="002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49920" y="4938840"/>
                <a:ext cx="214560" cy="21888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51360" y="4940280"/>
                <a:ext cx="209880" cy="214200"/>
              </a:xfrm>
              <a:prstGeom prst="ellipse">
                <a:avLst/>
              </a:prstGeom>
              <a:solidFill>
                <a:srgbClr val="00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751360" y="4941720"/>
                <a:ext cx="207000" cy="21132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52440" y="4943520"/>
                <a:ext cx="204120" cy="206280"/>
              </a:xfrm>
              <a:prstGeom prst="ellipse">
                <a:avLst/>
              </a:prstGeom>
              <a:solidFill>
                <a:srgbClr val="00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54240" y="4943520"/>
                <a:ext cx="199080" cy="204840"/>
              </a:xfrm>
              <a:prstGeom prst="ellipse">
                <a:avLst/>
              </a:prstGeom>
              <a:solidFill>
                <a:srgbClr val="002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755680" y="4944960"/>
                <a:ext cx="196200" cy="20016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55680" y="4946760"/>
                <a:ext cx="192960" cy="196920"/>
              </a:xfrm>
              <a:prstGeom prst="ellipse">
                <a:avLst/>
              </a:prstGeom>
              <a:solidFill>
                <a:srgbClr val="002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57480" y="4948200"/>
                <a:ext cx="189720" cy="19224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58920" y="4950000"/>
                <a:ext cx="185400" cy="18720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760360" y="4950000"/>
                <a:ext cx="180720" cy="185400"/>
              </a:xfrm>
              <a:prstGeom prst="ellipse">
                <a:avLst/>
              </a:prstGeom>
              <a:solidFill>
                <a:srgbClr val="00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62160" y="4951440"/>
                <a:ext cx="177480" cy="181080"/>
              </a:xfrm>
              <a:prstGeom prst="ellipse">
                <a:avLst/>
              </a:prstGeom>
              <a:solidFill>
                <a:srgbClr val="00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62160" y="4952880"/>
                <a:ext cx="174240" cy="177840"/>
              </a:xfrm>
              <a:prstGeom prst="ellipse">
                <a:avLst/>
              </a:prstGeom>
              <a:solidFill>
                <a:srgbClr val="00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63600" y="4954680"/>
                <a:ext cx="171000" cy="172800"/>
              </a:xfrm>
              <a:prstGeom prst="ellipse">
                <a:avLst/>
              </a:prstGeom>
              <a:solidFill>
                <a:srgbClr val="00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65400" y="4954680"/>
                <a:ext cx="166680" cy="169920"/>
              </a:xfrm>
              <a:prstGeom prst="ellipse">
                <a:avLst/>
              </a:prstGeom>
              <a:solidFill>
                <a:srgbClr val="00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66840" y="4956120"/>
                <a:ext cx="162000" cy="166680"/>
              </a:xfrm>
              <a:prstGeom prst="ellipse">
                <a:avLst/>
              </a:prstGeom>
              <a:solidFill>
                <a:srgbClr val="003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68640" y="4957920"/>
                <a:ext cx="158400" cy="161640"/>
              </a:xfrm>
              <a:prstGeom prst="ellips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68640" y="4959360"/>
                <a:ext cx="155160" cy="158760"/>
              </a:xfrm>
              <a:prstGeom prst="ellipse">
                <a:avLst/>
              </a:prstGeom>
              <a:solidFill>
                <a:srgbClr val="023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770080" y="4960800"/>
                <a:ext cx="152280" cy="154080"/>
              </a:xfrm>
              <a:prstGeom prst="ellipse">
                <a:avLst/>
              </a:prstGeom>
              <a:solidFill>
                <a:srgbClr val="043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71160" y="4960800"/>
                <a:ext cx="147960" cy="152640"/>
              </a:xfrm>
              <a:prstGeom prst="ellipse">
                <a:avLst/>
              </a:prstGeom>
              <a:solidFill>
                <a:srgbClr val="0638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72960" y="4962600"/>
                <a:ext cx="144720" cy="147600"/>
              </a:xfrm>
              <a:prstGeom prst="ellipse">
                <a:avLst/>
              </a:prstGeom>
              <a:solidFill>
                <a:srgbClr val="0839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74400" y="4964040"/>
                <a:ext cx="140040" cy="142920"/>
              </a:xfrm>
              <a:prstGeom prst="ellipse">
                <a:avLst/>
              </a:prstGeom>
              <a:solidFill>
                <a:srgbClr val="0a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74400" y="4965840"/>
                <a:ext cx="136800" cy="139680"/>
              </a:xfrm>
              <a:prstGeom prst="ellipse">
                <a:avLst/>
              </a:prstGeom>
              <a:solidFill>
                <a:srgbClr val="0c3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76200" y="4967280"/>
                <a:ext cx="133560" cy="135000"/>
              </a:xfrm>
              <a:prstGeom prst="ellipse">
                <a:avLst/>
              </a:prstGeom>
              <a:solidFill>
                <a:srgbClr val="0e3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77640" y="4967280"/>
                <a:ext cx="129240" cy="133200"/>
              </a:xfrm>
              <a:prstGeom prst="ellipse">
                <a:avLst/>
              </a:prstGeom>
              <a:solidFill>
                <a:srgbClr val="104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779080" y="4968720"/>
                <a:ext cx="126360" cy="128880"/>
              </a:xfrm>
              <a:prstGeom prst="ellipse">
                <a:avLst/>
              </a:prstGeom>
              <a:solidFill>
                <a:srgbClr val="124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80880" y="4970520"/>
                <a:ext cx="121320" cy="123840"/>
              </a:xfrm>
              <a:prstGeom prst="ellipse">
                <a:avLst/>
              </a:prstGeom>
              <a:solidFill>
                <a:srgbClr val="144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780880" y="4971960"/>
                <a:ext cx="118080" cy="120600"/>
              </a:xfrm>
              <a:prstGeom prst="ellipse">
                <a:avLst/>
              </a:prstGeom>
              <a:solidFill>
                <a:srgbClr val="164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82320" y="4973760"/>
                <a:ext cx="115200" cy="115920"/>
              </a:xfrm>
              <a:prstGeom prst="ellipse">
                <a:avLst/>
              </a:prstGeom>
              <a:solidFill>
                <a:srgbClr val="184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84120" y="4973760"/>
                <a:ext cx="110520" cy="114120"/>
              </a:xfrm>
              <a:prstGeom prst="ellipse">
                <a:avLst/>
              </a:prstGeom>
              <a:solidFill>
                <a:srgbClr val="1a48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85560" y="4975200"/>
                <a:ext cx="107280" cy="109440"/>
              </a:xfrm>
              <a:prstGeom prst="ellipse">
                <a:avLst/>
              </a:prstGeom>
              <a:solidFill>
                <a:srgbClr val="1c4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787000" y="4976640"/>
                <a:ext cx="102600" cy="105120"/>
              </a:xfrm>
              <a:prstGeom prst="ellipse">
                <a:avLst/>
              </a:prstGeom>
              <a:solidFill>
                <a:srgbClr val="1e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787000" y="4978440"/>
                <a:ext cx="99720" cy="101520"/>
              </a:xfrm>
              <a:prstGeom prst="ellipse">
                <a:avLst/>
              </a:prstGeom>
              <a:solidFill>
                <a:srgbClr val="204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788800" y="4979880"/>
                <a:ext cx="96120" cy="96840"/>
              </a:xfrm>
              <a:prstGeom prst="ellipse">
                <a:avLst/>
              </a:prstGeom>
              <a:solidFill>
                <a:srgbClr val="224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789880" y="4979880"/>
                <a:ext cx="91800" cy="95400"/>
              </a:xfrm>
              <a:prstGeom prst="ellipse">
                <a:avLst/>
              </a:prstGeom>
              <a:solidFill>
                <a:srgbClr val="244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91680" y="4981680"/>
                <a:ext cx="88560" cy="90360"/>
              </a:xfrm>
              <a:prstGeom prst="ellipse">
                <a:avLst/>
              </a:prstGeom>
              <a:solidFill>
                <a:srgbClr val="265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791680" y="4983120"/>
                <a:ext cx="85320" cy="87480"/>
              </a:xfrm>
              <a:prstGeom prst="ellipse">
                <a:avLst/>
              </a:prstGeom>
              <a:solidFill>
                <a:srgbClr val="28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793120" y="4984920"/>
                <a:ext cx="82440" cy="82440"/>
              </a:xfrm>
              <a:prstGeom prst="ellipse">
                <a:avLst/>
              </a:prstGeom>
              <a:solidFill>
                <a:srgbClr val="2a5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794920" y="4984920"/>
              <a:ext cx="77760" cy="79200"/>
            </a:xfrm>
            <a:prstGeom prst="ellipse">
              <a:avLst/>
            </a:prstGeom>
            <a:solidFill>
              <a:srgbClr val="2b5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96720" y="4986360"/>
              <a:ext cx="73080" cy="76320"/>
            </a:xfrm>
            <a:prstGeom prst="ellipse">
              <a:avLst/>
            </a:prstGeom>
            <a:solidFill>
              <a:srgbClr val="2d5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98160" y="4987800"/>
              <a:ext cx="70200" cy="71640"/>
            </a:xfrm>
            <a:prstGeom prst="ellipse">
              <a:avLst/>
            </a:prstGeom>
            <a:solidFill>
              <a:srgbClr val="2f59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98160" y="4989600"/>
              <a:ext cx="66960" cy="68040"/>
            </a:xfrm>
            <a:prstGeom prst="ellipse">
              <a:avLst/>
            </a:prstGeom>
            <a:solidFill>
              <a:srgbClr val="315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99960" y="4991040"/>
              <a:ext cx="63720" cy="63720"/>
            </a:xfrm>
            <a:prstGeom prst="ellipse">
              <a:avLst/>
            </a:prstGeom>
            <a:solidFill>
              <a:srgbClr val="335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01400" y="4991040"/>
              <a:ext cx="59040" cy="60480"/>
            </a:xfrm>
            <a:prstGeom prst="ellipse">
              <a:avLst/>
            </a:prstGeom>
            <a:solidFill>
              <a:srgbClr val="35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02840" y="4992840"/>
              <a:ext cx="54360" cy="56880"/>
            </a:xfrm>
            <a:prstGeom prst="ellipse">
              <a:avLst/>
            </a:prstGeom>
            <a:solidFill>
              <a:srgbClr val="3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04280" y="4994280"/>
              <a:ext cx="51120" cy="52560"/>
            </a:xfrm>
            <a:prstGeom prst="ellipse">
              <a:avLst/>
            </a:prstGeom>
            <a:solidFill>
              <a:srgbClr val="396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04280" y="4995720"/>
              <a:ext cx="48240" cy="49320"/>
            </a:xfrm>
            <a:prstGeom prst="ellipse">
              <a:avLst/>
            </a:prstGeom>
            <a:solidFill>
              <a:srgbClr val="3b62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05720" y="4997520"/>
              <a:ext cx="45000" cy="44280"/>
            </a:xfrm>
            <a:prstGeom prst="ellipse">
              <a:avLst/>
            </a:prstGeom>
            <a:solidFill>
              <a:srgbClr val="3d6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07520" y="4997520"/>
              <a:ext cx="39960" cy="42840"/>
            </a:xfrm>
            <a:prstGeom prst="ellipse">
              <a:avLst/>
            </a:prstGeom>
            <a:solidFill>
              <a:srgbClr val="3f6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08960" y="4998960"/>
              <a:ext cx="37080" cy="38160"/>
            </a:xfrm>
            <a:prstGeom prst="ellipse">
              <a:avLst/>
            </a:prstGeom>
            <a:solidFill>
              <a:srgbClr val="4167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10760" y="5000760"/>
              <a:ext cx="32400" cy="33120"/>
            </a:xfrm>
            <a:prstGeom prst="ellipse">
              <a:avLst/>
            </a:prstGeom>
            <a:solidFill>
              <a:srgbClr val="43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10760" y="5002200"/>
              <a:ext cx="29160" cy="30240"/>
            </a:xfrm>
            <a:prstGeom prst="ellipse">
              <a:avLst/>
            </a:prstGeom>
            <a:solidFill>
              <a:srgbClr val="456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12200" y="5003640"/>
              <a:ext cx="26280" cy="25560"/>
            </a:xfrm>
            <a:prstGeom prst="ellipse">
              <a:avLst/>
            </a:prstGeom>
            <a:solidFill>
              <a:srgbClr val="476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13640" y="5003640"/>
              <a:ext cx="21600" cy="24120"/>
            </a:xfrm>
            <a:prstGeom prst="ellipse">
              <a:avLst/>
            </a:prstGeom>
            <a:solidFill>
              <a:srgbClr val="49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15440" y="5005440"/>
              <a:ext cx="18360" cy="19080"/>
            </a:xfrm>
            <a:prstGeom prst="ellipse">
              <a:avLst/>
            </a:prstGeom>
            <a:solidFill>
              <a:srgbClr val="4b6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6880" y="5006880"/>
              <a:ext cx="14040" cy="14400"/>
            </a:xfrm>
            <a:prstGeom prst="ellipse">
              <a:avLst/>
            </a:prstGeom>
            <a:solidFill>
              <a:srgbClr val="4d71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16880" y="5008680"/>
              <a:ext cx="10800" cy="11160"/>
            </a:xfrm>
            <a:prstGeom prst="ellipse">
              <a:avLst/>
            </a:prstGeom>
            <a:solidFill>
              <a:srgbClr val="4f72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18680" y="5010120"/>
              <a:ext cx="7560" cy="6480"/>
            </a:xfrm>
            <a:prstGeom prst="ellipse">
              <a:avLst/>
            </a:prstGeom>
            <a:solidFill>
              <a:srgbClr val="517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20120" y="5010120"/>
              <a:ext cx="2880" cy="4680"/>
            </a:xfrm>
            <a:prstGeom prst="ellipse">
              <a:avLst/>
            </a:prstGeom>
            <a:solidFill>
              <a:srgbClr val="537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15720" y="4903920"/>
              <a:ext cx="317160" cy="3236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83320" y="4957920"/>
              <a:ext cx="213480" cy="217440"/>
            </a:xfrm>
            <a:prstGeom prst="ellipse">
              <a:avLst/>
            </a:prstGeom>
            <a:solidFill>
              <a:srgbClr val="002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5120" y="4957920"/>
              <a:ext cx="209880" cy="214200"/>
            </a:xfrm>
            <a:prstGeom prst="ellipse">
              <a:avLst/>
            </a:prstGeom>
            <a:solidFill>
              <a:srgbClr val="002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386560" y="4959360"/>
              <a:ext cx="205200" cy="210960"/>
            </a:xfrm>
            <a:prstGeom prst="ellipse">
              <a:avLst/>
            </a:prstGeom>
            <a:solidFill>
              <a:srgbClr val="002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388360" y="4960800"/>
              <a:ext cx="202320" cy="206640"/>
            </a:xfrm>
            <a:prstGeom prst="ellipse">
              <a:avLst/>
            </a:prstGeom>
            <a:solidFill>
              <a:srgbClr val="0024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88360" y="4962600"/>
              <a:ext cx="199080" cy="201600"/>
            </a:xfrm>
            <a:prstGeom prst="ellipse">
              <a:avLst/>
            </a:prstGeom>
            <a:solidFill>
              <a:srgbClr val="002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389800" y="4964040"/>
              <a:ext cx="194400" cy="198360"/>
            </a:xfrm>
            <a:prstGeom prst="ellipse">
              <a:avLst/>
            </a:prstGeom>
            <a:solidFill>
              <a:srgbClr val="0025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91240" y="4964040"/>
              <a:ext cx="191520" cy="195480"/>
            </a:xfrm>
            <a:prstGeom prst="ellipse">
              <a:avLst/>
            </a:prstGeom>
            <a:solidFill>
              <a:srgbClr val="002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93040" y="4965840"/>
              <a:ext cx="186480" cy="191880"/>
            </a:xfrm>
            <a:prstGeom prst="ellipse">
              <a:avLst/>
            </a:prstGeom>
            <a:solidFill>
              <a:srgbClr val="002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94480" y="4967280"/>
              <a:ext cx="183960" cy="187200"/>
            </a:xfrm>
            <a:prstGeom prst="ellipse">
              <a:avLst/>
            </a:prstGeom>
            <a:solidFill>
              <a:srgbClr val="002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94480" y="4968720"/>
              <a:ext cx="180720" cy="182880"/>
            </a:xfrm>
            <a:prstGeom prst="ellipse">
              <a:avLst/>
            </a:prstGeom>
            <a:solidFill>
              <a:srgbClr val="0028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396280" y="4970520"/>
              <a:ext cx="177120" cy="179280"/>
            </a:xfrm>
            <a:prstGeom prst="ellipse">
              <a:avLst/>
            </a:pr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397360" y="4970520"/>
              <a:ext cx="172800" cy="176040"/>
            </a:xfrm>
            <a:prstGeom prst="ellipse">
              <a:avLst/>
            </a:prstGeom>
            <a:solidFill>
              <a:srgbClr val="002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99160" y="4971960"/>
              <a:ext cx="167760" cy="173160"/>
            </a:xfrm>
            <a:prstGeom prst="ellipse">
              <a:avLst/>
            </a:prstGeom>
            <a:solidFill>
              <a:srgbClr val="002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400600" y="4973760"/>
              <a:ext cx="164880" cy="168120"/>
            </a:xfrm>
            <a:prstGeom prst="ellipse">
              <a:avLst/>
            </a:prstGeom>
            <a:solidFill>
              <a:srgbClr val="002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00600" y="4975200"/>
              <a:ext cx="162000" cy="165240"/>
            </a:xfrm>
            <a:prstGeom prst="ellipse">
              <a:avLst/>
            </a:prstGeom>
            <a:solidFill>
              <a:srgbClr val="002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402040" y="4976640"/>
              <a:ext cx="158760" cy="160560"/>
            </a:xfrm>
            <a:prstGeom prst="ellipse">
              <a:avLst/>
            </a:prstGeom>
            <a:solidFill>
              <a:srgbClr val="002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403840" y="4976640"/>
              <a:ext cx="153720" cy="157320"/>
            </a:xfrm>
            <a:prstGeom prst="ellipse">
              <a:avLst/>
            </a:prstGeom>
            <a:solidFill>
              <a:srgbClr val="002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405280" y="4978440"/>
              <a:ext cx="149400" cy="154080"/>
            </a:xfrm>
            <a:prstGeom prst="ellipse">
              <a:avLst/>
            </a:prstGeom>
            <a:solidFill>
              <a:srgbClr val="002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407080" y="4979880"/>
              <a:ext cx="146160" cy="149400"/>
            </a:xfrm>
            <a:prstGeom prst="ellipse">
              <a:avLst/>
            </a:prstGeom>
            <a:solidFill>
              <a:srgbClr val="002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07080" y="4981680"/>
              <a:ext cx="142920" cy="145800"/>
            </a:xfrm>
            <a:prstGeom prst="ellipse">
              <a:avLst/>
            </a:prstGeom>
            <a:solidFill>
              <a:srgbClr val="002d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408520" y="4981680"/>
              <a:ext cx="140040" cy="142920"/>
            </a:xfrm>
            <a:prstGeom prst="ellipse">
              <a:avLst/>
            </a:prstGeom>
            <a:solidFill>
              <a:srgbClr val="002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09960" y="4983120"/>
              <a:ext cx="135360" cy="138240"/>
            </a:xfrm>
            <a:prstGeom prst="ellipse">
              <a:avLst/>
            </a:prstGeom>
            <a:solidFill>
              <a:srgbClr val="002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11760" y="4984920"/>
              <a:ext cx="132120" cy="134640"/>
            </a:xfrm>
            <a:prstGeom prst="ellipse">
              <a:avLst/>
            </a:prstGeom>
            <a:solidFill>
              <a:srgbClr val="002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13200" y="4986360"/>
              <a:ext cx="127800" cy="130320"/>
            </a:xfrm>
            <a:prstGeom prst="ellipse">
              <a:avLst/>
            </a:prstGeom>
            <a:solidFill>
              <a:srgbClr val="00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13200" y="4987800"/>
              <a:ext cx="124560" cy="127080"/>
            </a:xfrm>
            <a:prstGeom prst="ellipse">
              <a:avLst/>
            </a:prstGeom>
            <a:solidFill>
              <a:srgbClr val="003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415000" y="4987800"/>
              <a:ext cx="121320" cy="123840"/>
            </a:xfrm>
            <a:prstGeom prst="ellipse">
              <a:avLst/>
            </a:prstGeom>
            <a:solidFill>
              <a:srgbClr val="00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16080" y="4989600"/>
              <a:ext cx="116640" cy="120600"/>
            </a:xfrm>
            <a:prstGeom prst="ellipse">
              <a:avLst/>
            </a:prstGeom>
            <a:solidFill>
              <a:srgbClr val="0032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17520" y="4991040"/>
              <a:ext cx="113400" cy="115920"/>
            </a:xfrm>
            <a:prstGeom prst="ellipse">
              <a:avLst/>
            </a:prstGeom>
            <a:solidFill>
              <a:srgbClr val="003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7520" y="4992840"/>
              <a:ext cx="110880" cy="110880"/>
            </a:xfrm>
            <a:prstGeom prst="ellipse">
              <a:avLst/>
            </a:prstGeom>
            <a:solidFill>
              <a:srgbClr val="003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9320" y="4994280"/>
              <a:ext cx="105840" cy="108000"/>
            </a:xfrm>
            <a:prstGeom prst="ellipse">
              <a:avLst/>
            </a:prstGeom>
            <a:solidFill>
              <a:srgbClr val="013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20760" y="4994280"/>
              <a:ext cx="102600" cy="104760"/>
            </a:xfrm>
            <a:prstGeom prst="ellipse">
              <a:avLst/>
            </a:prstGeom>
            <a:solidFill>
              <a:srgbClr val="043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22560" y="4995720"/>
              <a:ext cx="97920" cy="101880"/>
            </a:xfrm>
            <a:prstGeom prst="ellipse">
              <a:avLst/>
            </a:prstGeom>
            <a:solidFill>
              <a:srgbClr val="0739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24000" y="4997520"/>
              <a:ext cx="94680" cy="96840"/>
            </a:xfrm>
            <a:prstGeom prst="ellipse">
              <a:avLst/>
            </a:prstGeom>
            <a:solidFill>
              <a:srgbClr val="0a3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24000" y="4998960"/>
              <a:ext cx="91800" cy="92160"/>
            </a:xfrm>
            <a:prstGeom prst="ellipse">
              <a:avLst/>
            </a:prstGeom>
            <a:solidFill>
              <a:srgbClr val="0d3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25800" y="5000760"/>
              <a:ext cx="86760" cy="88920"/>
            </a:xfrm>
            <a:prstGeom prst="ellipse">
              <a:avLst/>
            </a:prstGeom>
            <a:solidFill>
              <a:srgbClr val="104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27240" y="5000760"/>
              <a:ext cx="83880" cy="85680"/>
            </a:xfrm>
            <a:prstGeom prst="ellipse">
              <a:avLst/>
            </a:prstGeom>
            <a:solidFill>
              <a:srgbClr val="134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28680" y="5002200"/>
              <a:ext cx="79200" cy="82440"/>
            </a:xfrm>
            <a:prstGeom prst="ellipse">
              <a:avLst/>
            </a:prstGeom>
            <a:solidFill>
              <a:srgbClr val="164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30480" y="5003640"/>
              <a:ext cx="75960" cy="78120"/>
            </a:xfrm>
            <a:prstGeom prst="ellipse">
              <a:avLst/>
            </a:prstGeom>
            <a:solidFill>
              <a:srgbClr val="1947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30480" y="5005440"/>
              <a:ext cx="73080" cy="74520"/>
            </a:xfrm>
            <a:prstGeom prst="ellipse">
              <a:avLst/>
            </a:prstGeom>
            <a:solidFill>
              <a:srgbClr val="1c4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31920" y="5006880"/>
              <a:ext cx="70200" cy="69840"/>
            </a:xfrm>
            <a:prstGeom prst="ellipse">
              <a:avLst/>
            </a:prstGeom>
            <a:solidFill>
              <a:srgbClr val="1f4c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33720" y="5006880"/>
              <a:ext cx="65160" cy="66600"/>
            </a:xfrm>
            <a:prstGeom prst="ellipse">
              <a:avLst/>
            </a:prstGeom>
            <a:solidFill>
              <a:srgbClr val="224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434800" y="5008680"/>
              <a:ext cx="60480" cy="63360"/>
            </a:xfrm>
            <a:prstGeom prst="ellipse">
              <a:avLst/>
            </a:prstGeom>
            <a:solidFill>
              <a:srgbClr val="255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36240" y="5010120"/>
              <a:ext cx="57600" cy="58680"/>
            </a:xfrm>
            <a:prstGeom prst="ellipse">
              <a:avLst/>
            </a:prstGeom>
            <a:solidFill>
              <a:srgbClr val="2853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36240" y="5011560"/>
              <a:ext cx="54720" cy="55800"/>
            </a:xfrm>
            <a:prstGeom prst="ellipse">
              <a:avLst/>
            </a:prstGeom>
            <a:solidFill>
              <a:srgbClr val="2b55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38040" y="5013360"/>
              <a:ext cx="51120" cy="50760"/>
            </a:xfrm>
            <a:prstGeom prst="ellipse">
              <a:avLst/>
            </a:prstGeom>
            <a:solidFill>
              <a:srgbClr val="2e58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439480" y="5013360"/>
              <a:ext cx="46440" cy="47520"/>
            </a:xfrm>
            <a:prstGeom prst="ellipse">
              <a:avLst/>
            </a:prstGeom>
            <a:solidFill>
              <a:srgbClr val="315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441280" y="5014800"/>
              <a:ext cx="41760" cy="44640"/>
            </a:xfrm>
            <a:prstGeom prst="ellipse">
              <a:avLst/>
            </a:prstGeom>
            <a:solidFill>
              <a:srgbClr val="345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442720" y="5016600"/>
              <a:ext cx="38520" cy="39600"/>
            </a:xfrm>
            <a:prstGeom prst="ellipse">
              <a:avLst/>
            </a:prstGeom>
            <a:solidFill>
              <a:srgbClr val="37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442720" y="5018040"/>
              <a:ext cx="35640" cy="36720"/>
            </a:xfrm>
            <a:prstGeom prst="ellipse">
              <a:avLst/>
            </a:prstGeom>
            <a:solidFill>
              <a:srgbClr val="396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44160" y="5018040"/>
              <a:ext cx="32760" cy="33480"/>
            </a:xfrm>
            <a:prstGeom prst="ellipse">
              <a:avLst/>
            </a:prstGeom>
            <a:solidFill>
              <a:srgbClr val="3c6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45960" y="5019840"/>
              <a:ext cx="27720" cy="28440"/>
            </a:xfrm>
            <a:prstGeom prst="ellipse">
              <a:avLst/>
            </a:prstGeom>
            <a:solidFill>
              <a:srgbClr val="3f66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447400" y="5021280"/>
              <a:ext cx="24840" cy="25560"/>
            </a:xfrm>
            <a:prstGeom prst="ellipse">
              <a:avLst/>
            </a:prstGeom>
            <a:solidFill>
              <a:srgbClr val="426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47400" y="5022720"/>
              <a:ext cx="21600" cy="20880"/>
            </a:xfrm>
            <a:prstGeom prst="ellipse">
              <a:avLst/>
            </a:prstGeom>
            <a:solidFill>
              <a:srgbClr val="456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49200" y="5024520"/>
              <a:ext cx="16920" cy="17280"/>
            </a:xfrm>
            <a:prstGeom prst="ellipse">
              <a:avLst/>
            </a:prstGeom>
            <a:solidFill>
              <a:srgbClr val="48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50640" y="5024520"/>
              <a:ext cx="14040" cy="14040"/>
            </a:xfrm>
            <a:prstGeom prst="ellipse">
              <a:avLst/>
            </a:prstGeom>
            <a:solidFill>
              <a:srgbClr val="4b6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452080" y="5025960"/>
              <a:ext cx="9360" cy="11160"/>
            </a:xfrm>
            <a:prstGeom prst="ellipse">
              <a:avLst/>
            </a:prstGeom>
            <a:solidFill>
              <a:srgbClr val="4e7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53520" y="5027760"/>
              <a:ext cx="6120" cy="6120"/>
            </a:xfrm>
            <a:prstGeom prst="ellipse">
              <a:avLst/>
            </a:prstGeom>
            <a:solidFill>
              <a:srgbClr val="517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3320" y="4957920"/>
              <a:ext cx="213480" cy="2174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47080" y="1755720"/>
              <a:ext cx="35280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FH B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94520" y="5154480"/>
              <a:ext cx="41832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FH M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927920" y="5116680"/>
              <a:ext cx="41220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HS N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10880" y="549576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-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57320" y="498492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57320" y="447516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83880" y="396396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3880" y="345276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83880" y="294156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83880" y="243216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83880" y="191916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83880" y="140976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3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79360" y="568476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-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42160" y="568476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85520" y="568476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95400" y="568476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40560" y="568476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84640" y="568476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929080" y="568476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85" name="Picture 11" descr=""/>
          <p:cNvPicPr/>
          <p:nvPr/>
        </p:nvPicPr>
        <p:blipFill>
          <a:blip r:embed="rId1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2" descr=""/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3" descr=""/>
          <p:cNvPicPr/>
          <p:nvPr/>
        </p:nvPicPr>
        <p:blipFill>
          <a:blip r:embed="rId3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4" descr=""/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15"/>
          <p:cNvSpPr/>
          <p:nvPr/>
        </p:nvSpPr>
        <p:spPr>
          <a:xfrm>
            <a:off x="150480" y="352440"/>
            <a:ext cx="225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5"/>
          <a:stretch/>
        </p:blipFill>
        <p:spPr>
          <a:xfrm>
            <a:off x="1619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92" name="Picture 11" descr=""/>
          <p:cNvPicPr/>
          <p:nvPr/>
        </p:nvPicPr>
        <p:blipFill>
          <a:blip r:embed="rId1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"/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3" descr=""/>
          <p:cNvPicPr/>
          <p:nvPr/>
        </p:nvPicPr>
        <p:blipFill>
          <a:blip r:embed="rId3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4" descr=""/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1619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6"/>
          <p:cNvSpPr/>
          <p:nvPr/>
        </p:nvSpPr>
        <p:spPr>
          <a:xfrm>
            <a:off x="171720" y="352440"/>
            <a:ext cx="3012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. Getränketechnologie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1762200" y="1150920"/>
            <a:ext cx="748512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1762200" y="1150920"/>
            <a:ext cx="748512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1762200" y="1150920"/>
            <a:ext cx="748512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1762200" y="1150920"/>
            <a:ext cx="748512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1762200" y="1150920"/>
            <a:ext cx="748512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1762200" y="1150920"/>
            <a:ext cx="748512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9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762200" y="1150920"/>
            <a:ext cx="7485120" cy="467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bittner</cp:lastModifiedBy>
  <dcterms:modified xsi:type="dcterms:W3CDTF">2013-05-22T14:40:15Z</dcterms:modified>
  <cp:revision>135</cp:revision>
  <dc:subject/>
  <dc:title>Folie 1</dc:title>
</cp:coreProperties>
</file>