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2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12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568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416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568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416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820728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12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a3d6d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33520" indent="-533520">
              <a:spcBef>
                <a:spcPts val="700"/>
              </a:spcBef>
              <a:buClr>
                <a:srgbClr val="2a3d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1" marL="979560" indent="-438120">
              <a:spcBef>
                <a:spcPts val="700"/>
              </a:spcBef>
              <a:buClr>
                <a:srgbClr val="2a3d6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2" marL="1438200" indent="-361800">
              <a:spcBef>
                <a:spcPts val="700"/>
              </a:spcBef>
              <a:buClr>
                <a:srgbClr val="2a3d6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3" marL="1981080" indent="-361800">
              <a:spcBef>
                <a:spcPts val="700"/>
              </a:spcBef>
              <a:buClr>
                <a:srgbClr val="2a3d6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4" marL="2332080" indent="-362160">
              <a:spcBef>
                <a:spcPts val="700"/>
              </a:spcBef>
              <a:buClr>
                <a:srgbClr val="2a3d6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5" marL="2332080" indent="-36216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6" marL="2332080" indent="-36216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3132000" y="6505560"/>
            <a:ext cx="4680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1"/>
          <p:cNvSpPr/>
          <p:nvPr/>
        </p:nvSpPr>
        <p:spPr>
          <a:xfrm>
            <a:off x="2050920" y="6237360"/>
            <a:ext cx="7093080" cy="71280"/>
          </a:xfrm>
          <a:prstGeom prst="rect">
            <a:avLst/>
          </a:prstGeom>
          <a:solidFill>
            <a:srgbClr val="2a3d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AutoShape 23"/>
          <p:cNvSpPr/>
          <p:nvPr/>
        </p:nvSpPr>
        <p:spPr>
          <a:xfrm>
            <a:off x="0" y="6297480"/>
            <a:ext cx="1468440" cy="306360"/>
          </a:xfrm>
          <a:custGeom>
            <a:avLst/>
            <a:gdLst>
              <a:gd name="textAreaLeft" fmla="*/ 19800 w 1468440"/>
              <a:gd name="textAreaRight" fmla="*/ 1448640 w 146844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103437" h="21600">
                <a:moveTo>
                  <a:pt x="0" y="0"/>
                </a:moveTo>
                <a:lnTo>
                  <a:pt x="103437" y="0"/>
                </a:lnTo>
                <a:lnTo>
                  <a:pt x="103437" y="21600"/>
                </a:lnTo>
                <a:lnTo>
                  <a:pt x="0" y="21600"/>
                </a:lnTo>
                <a:close/>
              </a:path>
              <a:path fill="lightenLess" w="103437" h="21600">
                <a:moveTo>
                  <a:pt x="0" y="0"/>
                </a:moveTo>
                <a:lnTo>
                  <a:pt x="103437" y="0"/>
                </a:lnTo>
                <a:lnTo>
                  <a:pt x="102037" y="1400"/>
                </a:lnTo>
                <a:lnTo>
                  <a:pt x="1400" y="1400"/>
                </a:lnTo>
                <a:close/>
              </a:path>
              <a:path fill="darken" w="103437" h="21600">
                <a:moveTo>
                  <a:pt x="103437" y="0"/>
                </a:moveTo>
                <a:lnTo>
                  <a:pt x="103437" y="21600"/>
                </a:lnTo>
                <a:lnTo>
                  <a:pt x="102037" y="20200"/>
                </a:lnTo>
                <a:lnTo>
                  <a:pt x="102037" y="1400"/>
                </a:lnTo>
                <a:close/>
              </a:path>
              <a:path fill="darkenLess" w="103437" h="21600">
                <a:moveTo>
                  <a:pt x="103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2037" y="20200"/>
                </a:lnTo>
                <a:close/>
              </a:path>
              <a:path fill="lighten" w="103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a6d1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8000" bIns="18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Beend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7" descr="NRW_MIWF_RGB"/>
          <p:cNvPicPr/>
          <p:nvPr/>
        </p:nvPicPr>
        <p:blipFill>
          <a:blip r:embed="rId2"/>
          <a:stretch/>
        </p:blipFill>
        <p:spPr>
          <a:xfrm>
            <a:off x="7088040" y="6451560"/>
            <a:ext cx="1587600" cy="32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16_AR_NRW_LFB_LE_HS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6_AR_NRW_LFB_LE_HS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20_AR_NRW_LFB_L_u_FE_HS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16_AR_NRW_LFB_LE_HS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6_AR_NRW_LFB_LE_HS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20_AR_NRW_LFB_L_u_FE_HS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14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16_AR_NRW_LFB_LE_HS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6_AR_NRW_LFB_LE_HS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20_AR_NRW_LFB_L_u_FE_HS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15.wmf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16_AR_NRW_LFB_LE_HS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6_AR_NRW_LFB_LE_HS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20_AR_NRW_LFB_L_u_FE_HS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16.wmf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16_AR_NRW_LFB_LE_HS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6_AR_NRW_LFB_LE_HS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20_AR_NRW_LFB_L_u_FE_HS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17.wmf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16_AR_NRW_LFB_LE_HS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6_AR_NRW_LFB_LE_HS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20_AR_NRW_LFB_L_u_FE_HS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16_AR_NRW_LFB_LE_HS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6_AR_NRW_LFB_LE_HS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20_AR_NRW_LFB_L_u_FE_HS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16_AR_NRW_LFB_LE_HS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6_AR_NRW_LFB_LE_HS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20_AR_NRW_LFB_L_u_FE_HS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20.wmf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16_AR_NRW_LFB_LE_HS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6_AR_NRW_LFB_LE_HS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20_AR_NRW_LFB_L_u_FE_HS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21.wmf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16_AR_NRW_LFB_LE_HS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6_AR_NRW_LFB_LE_HS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20_AR_NRW_LFB_L_u_FE_HS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22.wm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16_AR_NRW_LFB_LE_HS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6_AR_NRW_LFB_LE_HS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20_AR_NRW_LFB_L_u_FE_HS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16_AR_NRW_LFB_LE_HS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6_AR_NRW_LFB_LE_HS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20_AR_NRW_LFB_L_u_FE_HS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23.wmf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16_AR_NRW_LFB_LE_HS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6_AR_NRW_LFB_LE_HS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20_AR_NRW_LFB_L_u_FE_HS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24.wmf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16_AR_NRW_LFB_LE_HS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6_AR_NRW_LFB_LE_HS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20_AR_NRW_LFB_L_u_FE_HS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25.wmf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16_AR_NRW_LFB_LE_HS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6_AR_NRW_LFB_LE_HS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20_AR_NRW_LFB_L_u_FE_HS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16_AR_NRW_LFB_LE_HS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6_AR_NRW_LFB_LE_HS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20_AR_NRW_LFB_L_u_FE_HS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16_AR_NRW_LFB_LE_HS.ppt" TargetMode="Externa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16_AR_NRW_LFB_LE_HS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6_AR_NRW_LFB_LE_HS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20_AR_NRW_LFB_L_u_FE_HS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16_AR_NRW_LFB_LE_HS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6_AR_NRW_LFB_LE_HS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20_AR_NRW_LFB_L_u_FE_HS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16_AR_NRW_LFB_LE_HS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6_AR_NRW_LFB_LE_HS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20_AR_NRW_LFB_L_u_FE_HS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16_AR_NRW_LFB_LE_HS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6_AR_NRW_LFB_LE_HS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20_AR_NRW_LFB_L_u_FE_HS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16_AR_NRW_LFB_LE_HS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6_AR_NRW_LFB_LE_HS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20_AR_NRW_LFB_L_u_FE_HS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16_AR_NRW_LFB_LE_HS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6_AR_NRW_LFB_LE_HS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20_AR_NRW_LFB_L_u_FE_HS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16_AR_NRW_LFB_LE_HS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6_AR_NRW_LFB_LE_HS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20_AR_NRW_LFB_L_u_FE_HS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892080"/>
            <a:ext cx="9134640" cy="534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a3d6d"/>
                </a:solidFill>
                <a:latin typeface="Verdana"/>
              </a:rPr>
              <a:t>Diese Datei</a:t>
            </a:r>
            <a:br>
              <a:rPr sz="2400"/>
            </a:br>
            <a:r>
              <a:rPr b="0" i="1" lang="en-US" sz="2400" spc="-1" strike="noStrike">
                <a:solidFill>
                  <a:srgbClr val="2a3d6d"/>
                </a:solidFill>
                <a:latin typeface="Verdana"/>
              </a:rPr>
              <a:t>enthält die Tabellen zur Histo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a3d6d"/>
                </a:solidFill>
                <a:latin typeface="Verdana"/>
              </a:rPr>
              <a:t>Lehrerfolg 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a3d6d"/>
                </a:solidFill>
                <a:latin typeface="Verdana"/>
              </a:rPr>
              <a:t>Universitäten</a:t>
            </a:r>
            <a:r>
              <a:rPr b="0" i="1" lang="en-US" sz="2400" spc="-1" strike="noStrike">
                <a:solidFill>
                  <a:srgbClr val="2a3d6d"/>
                </a:solidFill>
                <a:latin typeface="Verdana"/>
              </a:rPr>
              <a:t> und</a:t>
            </a:r>
            <a:r>
              <a:rPr b="1" i="1" lang="en-US" sz="2400" spc="-1" strike="noStrike">
                <a:solidFill>
                  <a:srgbClr val="2a3d6d"/>
                </a:solidFill>
                <a:latin typeface="Verdana"/>
              </a:rPr>
              <a:t> Fachhochschu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640" y="6380280"/>
            <a:ext cx="8207280" cy="47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Vorblatt Hochschulportfolien Lehrerfolg</a:t>
            </a:r>
            <a:endParaRPr b="0" lang="en-US" sz="14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0" y="6297480"/>
            <a:ext cx="1468440" cy="306360"/>
          </a:xfrm>
          <a:custGeom>
            <a:avLst/>
            <a:gdLst>
              <a:gd name="textAreaLeft" fmla="*/ 19800 w 1468440"/>
              <a:gd name="textAreaRight" fmla="*/ 1448640 w 146844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103437" h="21600">
                <a:moveTo>
                  <a:pt x="0" y="0"/>
                </a:moveTo>
                <a:lnTo>
                  <a:pt x="103437" y="0"/>
                </a:lnTo>
                <a:lnTo>
                  <a:pt x="103437" y="21600"/>
                </a:lnTo>
                <a:lnTo>
                  <a:pt x="0" y="21600"/>
                </a:lnTo>
                <a:close/>
              </a:path>
              <a:path fill="lightenLess" w="103437" h="21600">
                <a:moveTo>
                  <a:pt x="0" y="0"/>
                </a:moveTo>
                <a:lnTo>
                  <a:pt x="103437" y="0"/>
                </a:lnTo>
                <a:lnTo>
                  <a:pt x="102037" y="1400"/>
                </a:lnTo>
                <a:lnTo>
                  <a:pt x="1400" y="1400"/>
                </a:lnTo>
                <a:close/>
              </a:path>
              <a:path fill="darken" w="103437" h="21600">
                <a:moveTo>
                  <a:pt x="103437" y="0"/>
                </a:moveTo>
                <a:lnTo>
                  <a:pt x="103437" y="21600"/>
                </a:lnTo>
                <a:lnTo>
                  <a:pt x="102037" y="20200"/>
                </a:lnTo>
                <a:lnTo>
                  <a:pt x="102037" y="1400"/>
                </a:lnTo>
                <a:close/>
              </a:path>
              <a:path fill="darkenLess" w="103437" h="21600">
                <a:moveTo>
                  <a:pt x="103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2037" y="20200"/>
                </a:lnTo>
                <a:close/>
              </a:path>
              <a:path fill="lighten" w="103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a6d1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8000" bIns="18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Beend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480" y="614160"/>
            <a:ext cx="186516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SH Köln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2867400" y="628560"/>
            <a:ext cx="396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Relativer Lehrerfolg im Zeitverlau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9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358920" y="1079640"/>
            <a:ext cx="8637480" cy="66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480" y="614160"/>
            <a:ext cx="186516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 Münster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2867400" y="628560"/>
            <a:ext cx="396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Relativer Lehrerfolg im Zeitverlau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9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5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7"/>
          <a:stretch/>
        </p:blipFill>
        <p:spPr>
          <a:xfrm>
            <a:off x="358920" y="1079640"/>
            <a:ext cx="8637480" cy="35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480" y="614160"/>
            <a:ext cx="186516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 Paderborn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2867400" y="628560"/>
            <a:ext cx="396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Relativer Lehrerfolg im Zeitverlau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9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358920" y="1079640"/>
            <a:ext cx="863748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480" y="614160"/>
            <a:ext cx="186516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 Siegen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2867400" y="628560"/>
            <a:ext cx="396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Relativer Lehrerfolg im Zeitverlau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9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7"/>
          <a:stretch/>
        </p:blipFill>
        <p:spPr>
          <a:xfrm>
            <a:off x="358920" y="1079640"/>
            <a:ext cx="8637480" cy="264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480" y="614160"/>
            <a:ext cx="186516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 Wuppertal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2867400" y="628560"/>
            <a:ext cx="396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Relativer Lehrerfolg im Zeitverlau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9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7"/>
          <a:stretch/>
        </p:blipFill>
        <p:spPr>
          <a:xfrm>
            <a:off x="358920" y="1079640"/>
            <a:ext cx="8637480" cy="315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480" y="614160"/>
            <a:ext cx="186516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H Aachen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2867400" y="628560"/>
            <a:ext cx="396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Relativer Lehrerfolg im Zeitverlau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9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358920" y="1079640"/>
            <a:ext cx="8637480" cy="181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480" y="614160"/>
            <a:ext cx="186516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H Bielefeld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2867400" y="628560"/>
            <a:ext cx="396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Relativer Lehrerfolg im Zeitverlau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9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7"/>
          <a:stretch/>
        </p:blipFill>
        <p:spPr>
          <a:xfrm>
            <a:off x="358920" y="1079640"/>
            <a:ext cx="8637480" cy="181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480" y="614160"/>
            <a:ext cx="186516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S Bochum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2867400" y="628560"/>
            <a:ext cx="396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Relativer Lehrerfolg im Zeitverlau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7"/>
          <a:stretch/>
        </p:blipFill>
        <p:spPr>
          <a:xfrm>
            <a:off x="358920" y="1079640"/>
            <a:ext cx="8637480" cy="123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2480" y="332640"/>
            <a:ext cx="3592440" cy="6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S Bonn-Rhein-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ieg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2867400" y="628560"/>
            <a:ext cx="396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Relativer Lehrerfolg im Zeitverlau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9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358920" y="1079640"/>
            <a:ext cx="8637480" cy="101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2480" y="614160"/>
            <a:ext cx="30164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H Dortmund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2867400" y="628560"/>
            <a:ext cx="396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Relativer Lehrerfolg im Zeitverlau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9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0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7"/>
          <a:stretch/>
        </p:blipFill>
        <p:spPr>
          <a:xfrm>
            <a:off x="358920" y="1079640"/>
            <a:ext cx="8637480" cy="139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480" y="614160"/>
            <a:ext cx="186516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 Aachen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6" name="Rectangle 1072"/>
          <p:cNvSpPr/>
          <p:nvPr/>
        </p:nvSpPr>
        <p:spPr>
          <a:xfrm>
            <a:off x="2868840" y="628560"/>
            <a:ext cx="396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Relativer Lehrerfolg im Zeitverlau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07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74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8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358920" y="1079640"/>
            <a:ext cx="8637480" cy="29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2840" y="614160"/>
            <a:ext cx="344952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H Düsseldorf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2867400" y="628560"/>
            <a:ext cx="396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Relativer Lehrerfolg im Zeitverlau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9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7"/>
          <a:stretch/>
        </p:blipFill>
        <p:spPr>
          <a:xfrm>
            <a:off x="358920" y="1079640"/>
            <a:ext cx="8637480" cy="148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2840" y="614160"/>
            <a:ext cx="344952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H Gelsenkirchen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2867400" y="628560"/>
            <a:ext cx="396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Relativer Lehrerfolg im Zeitverlau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9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56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7"/>
          <a:stretch/>
        </p:blipFill>
        <p:spPr>
          <a:xfrm>
            <a:off x="358920" y="1079640"/>
            <a:ext cx="8637480" cy="151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480" y="614160"/>
            <a:ext cx="186516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H Köln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2867400" y="628560"/>
            <a:ext cx="396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Relativer Lehrerfolg im Zeitverlau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9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0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7"/>
          <a:stretch/>
        </p:blipFill>
        <p:spPr>
          <a:xfrm>
            <a:off x="358920" y="1079640"/>
            <a:ext cx="8637480" cy="23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480" y="614160"/>
            <a:ext cx="186516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H Münster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67400" y="628560"/>
            <a:ext cx="396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Relativer Lehrerfolg im Zeitverlau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9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0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7"/>
          <a:stretch/>
        </p:blipFill>
        <p:spPr>
          <a:xfrm>
            <a:off x="358920" y="1079640"/>
            <a:ext cx="8637480" cy="204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840" y="614160"/>
            <a:ext cx="344952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S Niederrhein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2867400" y="628560"/>
            <a:ext cx="396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Relativer Lehrerfolg im Zeitverlau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9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358920" y="1079640"/>
            <a:ext cx="8637480" cy="159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840" y="332640"/>
            <a:ext cx="3449520" cy="6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S Ostwestfalen-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ippe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2867400" y="628560"/>
            <a:ext cx="396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Relativer Lehrerfolg im Zeitverlau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9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"/>
          <p:cNvPicPr/>
          <p:nvPr/>
        </p:nvPicPr>
        <p:blipFill>
          <a:blip r:embed="rId3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4" descr=""/>
          <p:cNvPicPr/>
          <p:nvPr/>
        </p:nvPicPr>
        <p:blipFill>
          <a:blip r:embed="rId4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358920" y="1079640"/>
            <a:ext cx="8637480" cy="17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2840" y="614160"/>
            <a:ext cx="344952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H Südwestfalen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2867400" y="628560"/>
            <a:ext cx="396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Relativer Lehrerfolg im Zeitverlau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9" descr=""/>
          <p:cNvPicPr/>
          <p:nvPr/>
        </p:nvPicPr>
        <p:blipFill>
          <a:blip r:embed="rId1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0" descr=""/>
          <p:cNvPicPr/>
          <p:nvPr/>
        </p:nvPicPr>
        <p:blipFill>
          <a:blip r:embed="rId2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4" descr=""/>
          <p:cNvPicPr/>
          <p:nvPr/>
        </p:nvPicPr>
        <p:blipFill>
          <a:blip r:embed="rId3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358920" y="1079640"/>
            <a:ext cx="863748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120" y="614160"/>
            <a:ext cx="186516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 Bielefeld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2867400" y="628560"/>
            <a:ext cx="396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Relativer Lehrerfolg im Zeitverlau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358920" y="1079640"/>
            <a:ext cx="8637480" cy="243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480" y="619920"/>
            <a:ext cx="820728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 Bochum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2867400" y="628560"/>
            <a:ext cx="396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Relativer Lehrerfolg im Zeitverlau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9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591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7"/>
          <a:stretch/>
        </p:blipFill>
        <p:spPr>
          <a:xfrm>
            <a:off x="358920" y="1079640"/>
            <a:ext cx="8637480" cy="317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120" y="614160"/>
            <a:ext cx="186516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 Bonn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2867400" y="628560"/>
            <a:ext cx="396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Relativer Lehrerfolg im Zeitverlau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>
            <a:off x="358920" y="1079640"/>
            <a:ext cx="8637480" cy="325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40" y="614160"/>
            <a:ext cx="265752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U Dortmund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2867400" y="628560"/>
            <a:ext cx="396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Relativer Lehrerfolg im Zeitverlau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9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6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358920" y="1079640"/>
            <a:ext cx="8637480" cy="315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480" y="332640"/>
            <a:ext cx="3521160" cy="6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 Duisburg-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ssen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2867400" y="628560"/>
            <a:ext cx="396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Relativer Lehrerfolg im Zeitverlau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7"/>
          <a:stretch/>
        </p:blipFill>
        <p:spPr>
          <a:xfrm>
            <a:off x="358920" y="1079640"/>
            <a:ext cx="8637480" cy="322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480" y="614160"/>
            <a:ext cx="186516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 Düsseldorf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2867400" y="628560"/>
            <a:ext cx="396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Relativer Lehrerfolg im Zeitverlau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358920" y="1079640"/>
            <a:ext cx="8637480" cy="279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480" y="614160"/>
            <a:ext cx="186516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 Köln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867400" y="628560"/>
            <a:ext cx="396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Relativer Lehrerfolg im Zeitverlau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9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7"/>
          <a:stretch/>
        </p:blipFill>
        <p:spPr>
          <a:xfrm>
            <a:off x="358920" y="1079640"/>
            <a:ext cx="8637480" cy="2916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12:21:56Z</dcterms:created>
  <dc:creator>zwiorek</dc:creator>
  <dc:description/>
  <dc:language>en-US</dc:language>
  <cp:lastModifiedBy>deuse</cp:lastModifiedBy>
  <dcterms:modified xsi:type="dcterms:W3CDTF">2013-08-06T14:15:53Z</dcterms:modified>
  <cp:revision>169</cp:revision>
  <dc:subject/>
  <dc:title>Folie 1</dc:title>
</cp:coreProperties>
</file>