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1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68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16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68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16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0728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1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file:///01_AR_NRW_FG_Ueberblick.ppt" TargetMode="External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3d6d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33520" indent="-533520">
              <a:spcBef>
                <a:spcPts val="700"/>
              </a:spcBef>
              <a:buClr>
                <a:srgbClr val="2a3d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1" marL="979560" indent="-43812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2" marL="1438200" indent="-36180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3" marL="1981080" indent="-36180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4" marL="2332080" indent="-36216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5" marL="2332080" indent="-36216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6" marL="2332080" indent="-36216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3132000" y="6505560"/>
            <a:ext cx="4680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1"/>
          <p:cNvSpPr/>
          <p:nvPr/>
        </p:nvSpPr>
        <p:spPr>
          <a:xfrm>
            <a:off x="2050920" y="6237360"/>
            <a:ext cx="7093080" cy="71280"/>
          </a:xfrm>
          <a:prstGeom prst="rect">
            <a:avLst/>
          </a:prstGeom>
          <a:solidFill>
            <a:srgbClr val="2a3d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21"/>
          <p:cNvSpPr/>
          <p:nvPr/>
        </p:nvSpPr>
        <p:spPr>
          <a:xfrm>
            <a:off x="0" y="6297480"/>
            <a:ext cx="1468440" cy="306360"/>
          </a:xfrm>
          <a:custGeom>
            <a:avLst/>
            <a:gdLst>
              <a:gd name="textAreaLeft" fmla="*/ 19800 w 1468440"/>
              <a:gd name="textAreaRight" fmla="*/ 1448640 w 146844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103437" h="21600">
                <a:moveTo>
                  <a:pt x="0" y="0"/>
                </a:moveTo>
                <a:lnTo>
                  <a:pt x="103437" y="0"/>
                </a:lnTo>
                <a:lnTo>
                  <a:pt x="103437" y="21600"/>
                </a:lnTo>
                <a:lnTo>
                  <a:pt x="0" y="21600"/>
                </a:lnTo>
                <a:close/>
              </a:path>
              <a:path fill="lightenLess" w="103437" h="21600">
                <a:moveTo>
                  <a:pt x="0" y="0"/>
                </a:moveTo>
                <a:lnTo>
                  <a:pt x="103437" y="0"/>
                </a:lnTo>
                <a:lnTo>
                  <a:pt x="102037" y="1400"/>
                </a:lnTo>
                <a:lnTo>
                  <a:pt x="1400" y="1400"/>
                </a:lnTo>
                <a:close/>
              </a:path>
              <a:path fill="darken" w="103437" h="21600">
                <a:moveTo>
                  <a:pt x="103437" y="0"/>
                </a:moveTo>
                <a:lnTo>
                  <a:pt x="103437" y="21600"/>
                </a:lnTo>
                <a:lnTo>
                  <a:pt x="102037" y="20200"/>
                </a:lnTo>
                <a:lnTo>
                  <a:pt x="102037" y="1400"/>
                </a:lnTo>
                <a:close/>
              </a:path>
              <a:path fill="darkenLess" w="103437" h="21600">
                <a:moveTo>
                  <a:pt x="103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037" y="20200"/>
                </a:lnTo>
                <a:close/>
              </a:path>
              <a:path fill="lighten" w="103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a6d1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Beend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4" descr="NRW_MIWF_RGB"/>
          <p:cNvPicPr/>
          <p:nvPr/>
        </p:nvPicPr>
        <p:blipFill>
          <a:blip r:embed="rId4"/>
          <a:stretch/>
        </p:blipFill>
        <p:spPr>
          <a:xfrm>
            <a:off x="7088040" y="6451560"/>
            <a:ext cx="1587600" cy="32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3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3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920" y="352440"/>
            <a:ext cx="229392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prach- und Kultur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40920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31640" y="1619280"/>
            <a:ext cx="8313840" cy="32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480" y="352440"/>
            <a:ext cx="268452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athematik und Natur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48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340920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31640" y="1619280"/>
            <a:ext cx="8313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480" y="352440"/>
            <a:ext cx="197964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ngenieurwissen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52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340920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31640" y="1619280"/>
            <a:ext cx="8313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91352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Kunst Musik Gestaltung und Sport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42840" y="352440"/>
            <a:ext cx="6443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unst, Musik, Gestaltu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d Sport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340920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31640" y="1619280"/>
            <a:ext cx="8313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715680"/>
            <a:ext cx="20494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Verdana"/>
              </a:rPr>
              <a:t>ReWiSoErzAgErn(U)</a:t>
            </a:r>
            <a:endParaRPr b="0" lang="en-US" sz="16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42840" y="165240"/>
            <a:ext cx="331164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hts-, Wirtschafts-, Sozial-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rziehungs-, Agrar- u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rnährungswissenschaft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10"/>
          <p:cNvSpPr/>
          <p:nvPr/>
        </p:nvSpPr>
        <p:spPr>
          <a:xfrm>
            <a:off x="340920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31640" y="1619280"/>
            <a:ext cx="831384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40" y="352440"/>
            <a:ext cx="31924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ngenieur- und Wirtschafts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issenschaft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8"/>
          <p:cNvSpPr/>
          <p:nvPr/>
        </p:nvSpPr>
        <p:spPr>
          <a:xfrm>
            <a:off x="340920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31640" y="1619280"/>
            <a:ext cx="83138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716000" y="60120"/>
            <a:ext cx="344988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FG II (FH) 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42840" y="165240"/>
            <a:ext cx="345744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Mathematik, Natur- und Sozial-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wissenschaften, Design, Sprach-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Ernährungs- und Informations-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wissenschaft (F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3733200" y="62856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31640" y="1619280"/>
            <a:ext cx="83138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2:21:56Z</dcterms:created>
  <dc:creator>zwiorek</dc:creator>
  <dc:description/>
  <dc:language>en-US</dc:language>
  <cp:lastModifiedBy>bittner</cp:lastModifiedBy>
  <dcterms:modified xsi:type="dcterms:W3CDTF">2013-05-22T14:33:13Z</dcterms:modified>
  <cp:revision>72</cp:revision>
  <dc:subject/>
  <dc:title>Folie 1</dc:title>
</cp:coreProperties>
</file>