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9.png" ContentType="image/png"/>
  <Override PartName="/ppt/media/image18.png" ContentType="image/png"/>
  <Override PartName="/ppt/media/image60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21.png" ContentType="image/png"/>
  <Override PartName="/ppt/media/image22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6.png" ContentType="image/png"/>
  <Override PartName="/ppt/media/image63.png" ContentType="image/png"/>
  <Override PartName="/ppt/media/image65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7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58.png" ContentType="image/png"/>
  <Override PartName="/ppt/media/image3.wmf" ContentType="image/x-wmf"/>
  <Override PartName="/ppt/media/image59.png" ContentType="image/png"/>
  <Override PartName="/ppt/media/image4.wmf" ContentType="image/x-wmf"/>
  <Override PartName="/ppt/media/image10.png" ContentType="image/png"/>
  <Override PartName="/ppt/media/image47.png" ContentType="image/png"/>
  <Override PartName="/ppt/media/image5.wmf" ContentType="image/x-wmf"/>
  <Override PartName="/ppt/media/image11.png" ContentType="image/png"/>
  <Override PartName="/ppt/media/image48.png" ContentType="image/png"/>
  <Override PartName="/ppt/media/image6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6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41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0728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2a3d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1" marL="979560" indent="-43812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2" marL="143820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3" marL="198108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4" marL="2332080" indent="-36216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5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6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132000" y="6505560"/>
            <a:ext cx="468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2050920" y="6237360"/>
            <a:ext cx="7093080" cy="71280"/>
          </a:xfrm>
          <a:prstGeom prst="rect">
            <a:avLst/>
          </a:prstGeom>
          <a:solidFill>
            <a:srgbClr val="2a3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21"/>
          <p:cNvSpPr/>
          <p:nvPr/>
        </p:nvSpPr>
        <p:spPr>
          <a:xfrm>
            <a:off x="0" y="6297480"/>
            <a:ext cx="1468440" cy="306360"/>
          </a:xfrm>
          <a:custGeom>
            <a:avLst/>
            <a:gdLst>
              <a:gd name="textAreaLeft" fmla="*/ 19800 w 1468440"/>
              <a:gd name="textAreaRight" fmla="*/ 1448640 w 14684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103437" h="21600">
                <a:moveTo>
                  <a:pt x="0" y="0"/>
                </a:moveTo>
                <a:lnTo>
                  <a:pt x="103437" y="0"/>
                </a:lnTo>
                <a:lnTo>
                  <a:pt x="103437" y="21600"/>
                </a:lnTo>
                <a:lnTo>
                  <a:pt x="0" y="21600"/>
                </a:lnTo>
                <a:close/>
              </a:path>
              <a:path fill="lightenLess" w="103437" h="21600">
                <a:moveTo>
                  <a:pt x="0" y="0"/>
                </a:moveTo>
                <a:lnTo>
                  <a:pt x="103437" y="0"/>
                </a:lnTo>
                <a:lnTo>
                  <a:pt x="102037" y="1400"/>
                </a:lnTo>
                <a:lnTo>
                  <a:pt x="1400" y="1400"/>
                </a:lnTo>
                <a:close/>
              </a:path>
              <a:path fill="darken" w="103437" h="21600">
                <a:moveTo>
                  <a:pt x="103437" y="0"/>
                </a:moveTo>
                <a:lnTo>
                  <a:pt x="103437" y="21600"/>
                </a:lnTo>
                <a:lnTo>
                  <a:pt x="102037" y="20200"/>
                </a:lnTo>
                <a:lnTo>
                  <a:pt x="102037" y="1400"/>
                </a:lnTo>
                <a:close/>
              </a:path>
              <a:path fill="darkenLess" w="103437" h="21600">
                <a:moveTo>
                  <a:pt x="10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037" y="20200"/>
                </a:lnTo>
                <a:close/>
              </a:path>
              <a:path fill="lighten" w="10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een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3"/>
          <p:cNvSpPr/>
          <p:nvPr/>
        </p:nvSpPr>
        <p:spPr>
          <a:xfrm>
            <a:off x="182160" y="3022560"/>
            <a:ext cx="119412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uslastu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%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S 2011/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4"/>
          <p:cNvSpPr/>
          <p:nvPr/>
        </p:nvSpPr>
        <p:spPr>
          <a:xfrm>
            <a:off x="3375360" y="5948280"/>
            <a:ext cx="440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bsolventenäquival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 Wissenschaftss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6"/>
          <p:cNvSpPr/>
          <p:nvPr/>
        </p:nvSpPr>
        <p:spPr>
          <a:xfrm>
            <a:off x="0" y="5937120"/>
            <a:ext cx="146844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Verdana"/>
              </a:rPr>
              <a:t>Def. Blasengröß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8" descr="NRW_MIWF_RGB"/>
          <p:cNvPicPr/>
          <p:nvPr/>
        </p:nvPicPr>
        <p:blipFill>
          <a:blip r:embed="rId2"/>
          <a:stretch/>
        </p:blipFill>
        <p:spPr>
          <a:xfrm>
            <a:off x="7088040" y="6451560"/>
            <a:ext cx="1587600" cy="3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33.png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41.png"/><Relationship Id="rId1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43.png"/><Relationship Id="rId1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44.png"/><Relationship Id="rId1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45.png"/><Relationship Id="rId1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46.png"/><Relationship Id="rId1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47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48.png"/><Relationship Id="rId1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3_AR_NRW_LFB_FE_FH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49.png"/><Relationship Id="rId1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04_AR_NRW_LFB_VSP.ppt" TargetMode="External"/><Relationship Id="rId8" Type="http://schemas.openxmlformats.org/officeDocument/2006/relationships/image" Target="../media/image6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4.wmf"/><Relationship Id="rId11" Type="http://schemas.openxmlformats.org/officeDocument/2006/relationships/image" Target="../media/image50.png"/><Relationship Id="rId1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04_AR_NRW_LFB_VSP.ppt" TargetMode="External"/><Relationship Id="rId8" Type="http://schemas.openxmlformats.org/officeDocument/2006/relationships/image" Target="../media/image6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4.wmf"/><Relationship Id="rId11" Type="http://schemas.openxmlformats.org/officeDocument/2006/relationships/image" Target="../media/image51.png"/><Relationship Id="rId1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04_AR_NRW_LFB_VSP.ppt" TargetMode="External"/><Relationship Id="rId8" Type="http://schemas.openxmlformats.org/officeDocument/2006/relationships/image" Target="../media/image6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4.wmf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04_AR_NRW_LFB_VSP.ppt" TargetMode="External"/><Relationship Id="rId8" Type="http://schemas.openxmlformats.org/officeDocument/2006/relationships/image" Target="../media/image6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4.wmf"/><Relationship Id="rId11" Type="http://schemas.openxmlformats.org/officeDocument/2006/relationships/image" Target="../media/image53.png"/><Relationship Id="rId1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04_AR_NRW_LFB_VSP.ppt" TargetMode="External"/><Relationship Id="rId8" Type="http://schemas.openxmlformats.org/officeDocument/2006/relationships/image" Target="../media/image6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4.wmf"/><Relationship Id="rId11" Type="http://schemas.openxmlformats.org/officeDocument/2006/relationships/image" Target="../media/image54.png"/><Relationship Id="rId1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04_AR_NRW_LFB_VSP.ppt" TargetMode="External"/><Relationship Id="rId8" Type="http://schemas.openxmlformats.org/officeDocument/2006/relationships/image" Target="../media/image6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4.wmf"/><Relationship Id="rId11" Type="http://schemas.openxmlformats.org/officeDocument/2006/relationships/image" Target="../media/image55.png"/><Relationship Id="rId1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04_AR_NRW_LFB_VSP.ppt" TargetMode="External"/><Relationship Id="rId8" Type="http://schemas.openxmlformats.org/officeDocument/2006/relationships/image" Target="../media/image6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4.wmf"/><Relationship Id="rId11" Type="http://schemas.openxmlformats.org/officeDocument/2006/relationships/image" Target="../media/image56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04_AR_NRW_LFB_VSP.ppt" TargetMode="External"/><Relationship Id="rId8" Type="http://schemas.openxmlformats.org/officeDocument/2006/relationships/image" Target="../media/image6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4.wmf"/><Relationship Id="rId11" Type="http://schemas.openxmlformats.org/officeDocument/2006/relationships/image" Target="../media/image57.png"/><Relationship Id="rId1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04_AR_NRW_LFB_VSP.ppt" TargetMode="External"/><Relationship Id="rId8" Type="http://schemas.openxmlformats.org/officeDocument/2006/relationships/image" Target="../media/image6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4.wmf"/><Relationship Id="rId11" Type="http://schemas.openxmlformats.org/officeDocument/2006/relationships/image" Target="../media/image58.png"/><Relationship Id="rId1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04_AR_NRW_LFB_VSP.ppt" TargetMode="External"/><Relationship Id="rId8" Type="http://schemas.openxmlformats.org/officeDocument/2006/relationships/image" Target="../media/image6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04_AR_NRW_LFB_VSP.ppt" TargetMode="External"/><Relationship Id="rId8" Type="http://schemas.openxmlformats.org/officeDocument/2006/relationships/image" Target="../media/image6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4.wmf"/><Relationship Id="rId11" Type="http://schemas.openxmlformats.org/officeDocument/2006/relationships/image" Target="../media/image59.png"/><Relationship Id="rId1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04_AR_NRW_LFB_VSP.ppt" TargetMode="External"/><Relationship Id="rId8" Type="http://schemas.openxmlformats.org/officeDocument/2006/relationships/image" Target="../media/image6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4.wmf"/><Relationship Id="rId11" Type="http://schemas.openxmlformats.org/officeDocument/2006/relationships/image" Target="../media/image60.png"/><Relationship Id="rId1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04_AR_NRW_LFB_VSP.ppt" TargetMode="External"/><Relationship Id="rId8" Type="http://schemas.openxmlformats.org/officeDocument/2006/relationships/image" Target="../media/image6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4.wmf"/><Relationship Id="rId11" Type="http://schemas.openxmlformats.org/officeDocument/2006/relationships/image" Target="../media/image61.png"/><Relationship Id="rId1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04_AR_NRW_LFB_VSP.ppt" TargetMode="External"/><Relationship Id="rId8" Type="http://schemas.openxmlformats.org/officeDocument/2006/relationships/image" Target="../media/image6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04_AR_NRW_LFB_VSP.ppt" TargetMode="External"/><Relationship Id="rId8" Type="http://schemas.openxmlformats.org/officeDocument/2006/relationships/image" Target="../media/image6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4.wmf"/><Relationship Id="rId11" Type="http://schemas.openxmlformats.org/officeDocument/2006/relationships/image" Target="../media/image62.png"/><Relationship Id="rId1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04_AR_NRW_LFB_VSP.ppt" TargetMode="External"/><Relationship Id="rId8" Type="http://schemas.openxmlformats.org/officeDocument/2006/relationships/image" Target="../media/image6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4.wmf"/><Relationship Id="rId11" Type="http://schemas.openxmlformats.org/officeDocument/2006/relationships/image" Target="../media/image63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04_AR_NRW_LFB_VSP.ppt" TargetMode="External"/><Relationship Id="rId8" Type="http://schemas.openxmlformats.org/officeDocument/2006/relationships/image" Target="../media/image6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4.wmf"/><Relationship Id="rId11" Type="http://schemas.openxmlformats.org/officeDocument/2006/relationships/image" Target="../media/image64.png"/><Relationship Id="rId1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9_AR_NRW_LFB_LE_Historie_Tabel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04_AR_NRW_LFB_VSP.ppt" TargetMode="External"/><Relationship Id="rId8" Type="http://schemas.openxmlformats.org/officeDocument/2006/relationships/image" Target="../media/image6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4.wmf"/><Relationship Id="rId11" Type="http://schemas.openxmlformats.org/officeDocument/2006/relationships/image" Target="../media/image65.png"/><Relationship Id="rId1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4.wmf"/><Relationship Id="rId7" Type="http://schemas.openxmlformats.org/officeDocument/2006/relationships/image" Target="../media/image66.png"/><Relationship Id="rId8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67.png"/><Relationship Id="rId7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68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6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8_AR_NRW_LFB_LE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10_AR_NRW_LFB_F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9_AR_NRW_LFB_LE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04_AR_NRW_LFB_VSP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Sprach- und Kulturwissenschaften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rmanis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14" name="Picture 68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9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9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92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9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94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V="1">
            <a:off x="5796000" y="3068280"/>
            <a:ext cx="288720" cy="73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Anglistik Amerikanistik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87"/>
          <p:cNvSpPr/>
          <p:nvPr/>
        </p:nvSpPr>
        <p:spPr>
          <a:xfrm>
            <a:off x="184680" y="628560"/>
            <a:ext cx="287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glistik, Amerikanistik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8532360" y="2133720"/>
            <a:ext cx="142920" cy="358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manis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Slawistik Baltistik Finno-Ugristik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05"/>
          <p:cNvSpPr/>
          <p:nvPr/>
        </p:nvSpPr>
        <p:spPr>
          <a:xfrm>
            <a:off x="153000" y="352440"/>
            <a:ext cx="1959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lawistik, Baltistik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no-Ugristik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nst./ Außereurop. Sprach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nd Kultur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Rechts-, Wirtschafts-, Sozial-, Erziehungs-, Agrar- und Ernährungswissenschaften an Universitäten</a:t>
            </a:r>
            <a:endParaRPr b="0" lang="en-US" sz="26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ziehung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ht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tschaft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ngelische The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9" name="Picture 71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72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27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728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729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30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es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AgrarLebensmittel-Getränketechnologie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22"/>
          <p:cNvSpPr/>
          <p:nvPr/>
        </p:nvSpPr>
        <p:spPr>
          <a:xfrm>
            <a:off x="163800" y="352440"/>
            <a:ext cx="289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grarwiss., Lebensmittel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. Getränketechnologie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nährungs- u. Haushalt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undheits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6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8"/>
          <p:cNvSpPr/>
          <p:nvPr/>
        </p:nvSpPr>
        <p:spPr>
          <a:xfrm>
            <a:off x="0" y="5589720"/>
            <a:ext cx="153360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umanmedizi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073"/>
          <p:cNvSpPr/>
          <p:nvPr/>
        </p:nvSpPr>
        <p:spPr>
          <a:xfrm>
            <a:off x="826920" y="1798560"/>
            <a:ext cx="8137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im Analyseraster 2011 vorhanden. Eine Darstellung im Analyseraster 2013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Mathematik und Naturwissenschaften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hema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Physik Astronomie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58"/>
          <p:cNvSpPr/>
          <p:nvPr/>
        </p:nvSpPr>
        <p:spPr>
          <a:xfrm>
            <a:off x="157320" y="628560"/>
            <a:ext cx="242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ysik, Astronomie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m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tholische The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7" name="Picture 68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9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9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9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93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94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armaz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ograph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o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ohne Geographie)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Ingenieurwissenschaften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genieur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ktur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15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umplanung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uingenieurwes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messungswes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osoph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5" name="Picture 1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9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schinenbau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fahrenstechn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47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ktrotechn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Bergbau Hüttenwesen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121"/>
          <p:cNvSpPr/>
          <p:nvPr/>
        </p:nvSpPr>
        <p:spPr>
          <a:xfrm>
            <a:off x="158040" y="628560"/>
            <a:ext cx="2846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rgbau, Hüttenwesen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6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im Analyseraster 2013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8"/>
          <p:cNvSpPr/>
          <p:nvPr/>
        </p:nvSpPr>
        <p:spPr>
          <a:xfrm>
            <a:off x="0" y="5589720"/>
            <a:ext cx="153360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nst. Ingenieu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Kunst, Musik, Gestaltung und Sport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Kunst_Kunstwiss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506"/>
          <p:cNvSpPr/>
          <p:nvPr/>
        </p:nvSpPr>
        <p:spPr>
          <a:xfrm>
            <a:off x="138960" y="352440"/>
            <a:ext cx="2158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unst, Kunst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 allgemein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6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im Analyseraster 2013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8"/>
          <p:cNvSpPr/>
          <p:nvPr/>
        </p:nvSpPr>
        <p:spPr>
          <a:xfrm>
            <a:off x="0" y="5589720"/>
            <a:ext cx="153360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ldende Kuns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unstgeschicht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taltung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Musik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12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347"/>
          <p:cNvSpPr/>
          <p:nvPr/>
        </p:nvSpPr>
        <p:spPr>
          <a:xfrm>
            <a:off x="148680" y="628560"/>
            <a:ext cx="228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usik, Musikwiss.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Film_u_Theater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21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129"/>
          <p:cNvSpPr/>
          <p:nvPr/>
        </p:nvSpPr>
        <p:spPr>
          <a:xfrm>
            <a:off x="157320" y="352440"/>
            <a:ext cx="1812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heater-, Film- u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ernsehwiss.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sych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3" name="Picture 1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9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ort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30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Ingenieur- und Wirtschaftswissenschaften an Fachhochschulen</a:t>
            </a:r>
            <a:endParaRPr b="0" lang="en-US" sz="26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tschafts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AgrarLebensmittel-Getränketechnologie (FH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122"/>
          <p:cNvSpPr/>
          <p:nvPr/>
        </p:nvSpPr>
        <p:spPr>
          <a:xfrm>
            <a:off x="171720" y="352440"/>
            <a:ext cx="3012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grarwiss., Lebensmittel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. Getränketechnologie (F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nährungs- u. Haushalt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58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genieur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66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ktur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74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umplanung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82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uingenieurwes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90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messungswes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98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chicht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81" name="Picture 1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9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schinenbau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fahrenstechn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506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4572000" y="2600280"/>
            <a:ext cx="504720" cy="181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ktrotechn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515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7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8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im Analyseraster 2013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9"/>
          <p:cNvSpPr/>
          <p:nvPr/>
        </p:nvSpPr>
        <p:spPr>
          <a:xfrm>
            <a:off x="0" y="5589720"/>
            <a:ext cx="153360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nst. Ingenieu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526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Mathematik, Natur-, Wirtschafts- und Sozialwissenschaften,</a:t>
            </a:r>
            <a:br>
              <a:rPr sz="2600"/>
            </a:b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Design, Sprach-, Ernährungs- und Informationswissenschaften an Fachhochschulen</a:t>
            </a:r>
            <a:endParaRPr b="0" lang="en-US" sz="26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0" y="5734080"/>
            <a:ext cx="152388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ziehungs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Bibliothekswiss Dokumentation (FH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544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159"/>
          <p:cNvSpPr/>
          <p:nvPr/>
        </p:nvSpPr>
        <p:spPr>
          <a:xfrm>
            <a:off x="132120" y="352440"/>
            <a:ext cx="2326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dien- u. Kommuni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ationswiss. (F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llg. u. vergl. Literatur- u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prach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553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7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8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im Analyseraster 2013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9"/>
          <p:cNvSpPr/>
          <p:nvPr/>
        </p:nvSpPr>
        <p:spPr>
          <a:xfrm>
            <a:off x="0" y="5589720"/>
            <a:ext cx="153360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564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es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hemat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579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Bibliothekswiss Dokumentation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89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3"/>
          <p:cNvSpPr/>
          <p:nvPr/>
        </p:nvSpPr>
        <p:spPr>
          <a:xfrm>
            <a:off x="154800" y="352440"/>
            <a:ext cx="2798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dien- u. Kommuni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ationswissenschaften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7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9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ys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595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mie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603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2" descr=""/>
          <p:cNvPicPr/>
          <p:nvPr/>
        </p:nvPicPr>
        <p:blipFill>
          <a:blip r:embed="rId3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"/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" descr=""/>
          <p:cNvPicPr/>
          <p:nvPr/>
        </p:nvPicPr>
        <p:blipFill>
          <a:blip r:embed="rId5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6" descr=""/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undheits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611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11" descr=""/>
          <p:cNvPicPr/>
          <p:nvPr/>
        </p:nvPicPr>
        <p:blipFill>
          <a:blip r:embed="rId1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2" descr=""/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14" descr=""/>
          <p:cNvPicPr/>
          <p:nvPr/>
        </p:nvPicPr>
        <p:blipFill>
          <a:blip r:embed="rId3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5" descr=""/>
          <p:cNvPicPr/>
          <p:nvPr/>
        </p:nvPicPr>
        <p:blipFill>
          <a:blip r:embed="rId4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6" descr=""/>
          <p:cNvPicPr/>
          <p:nvPr/>
        </p:nvPicPr>
        <p:blipFill>
          <a:blip r:embed="rId5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6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Kunst_Kunstwiss (FH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619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11" descr=""/>
          <p:cNvPicPr/>
          <p:nvPr/>
        </p:nvPicPr>
        <p:blipFill>
          <a:blip r:embed="rId1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2" descr=""/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4" descr=""/>
          <p:cNvPicPr/>
          <p:nvPr/>
        </p:nvPicPr>
        <p:blipFill>
          <a:blip r:embed="rId3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5" descr=""/>
          <p:cNvPicPr/>
          <p:nvPr/>
        </p:nvPicPr>
        <p:blipFill>
          <a:blip r:embed="rId4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6" descr=""/>
          <p:cNvPicPr/>
          <p:nvPr/>
        </p:nvPicPr>
        <p:blipFill>
          <a:blip r:embed="rId5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126"/>
          <p:cNvSpPr/>
          <p:nvPr/>
        </p:nvSpPr>
        <p:spPr>
          <a:xfrm>
            <a:off x="150480" y="352440"/>
            <a:ext cx="2256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unst, Kunst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 allgemein (F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6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taltung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628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11" descr=""/>
          <p:cNvPicPr/>
          <p:nvPr/>
        </p:nvPicPr>
        <p:blipFill>
          <a:blip r:embed="rId1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2" descr=""/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4" descr=""/>
          <p:cNvPicPr/>
          <p:nvPr/>
        </p:nvPicPr>
        <p:blipFill>
          <a:blip r:embed="rId3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15" descr=""/>
          <p:cNvPicPr/>
          <p:nvPr/>
        </p:nvPicPr>
        <p:blipFill>
          <a:blip r:embed="rId4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6" descr=""/>
          <p:cNvPicPr/>
          <p:nvPr/>
        </p:nvPicPr>
        <p:blipFill>
          <a:blip r:embed="rId5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6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llg. u. vergl. Literatur- u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prach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1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tphilologie (Klassisc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ologie)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093560" y="628560"/>
            <a:ext cx="178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Lehrerfolg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1385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2:21:56Z</dcterms:created>
  <dc:creator>zwiorek</dc:creator>
  <dc:description/>
  <dc:language>en-US</dc:language>
  <cp:lastModifiedBy>deuse</cp:lastModifiedBy>
  <dcterms:modified xsi:type="dcterms:W3CDTF">2013-08-06T15:58:00Z</dcterms:modified>
  <cp:revision>356</cp:revision>
  <dc:subject/>
  <dc:title>Folie 1</dc:title>
</cp:coreProperties>
</file>