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4.wmf" ContentType="image/x-wmf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077280" y="5948280"/>
            <a:ext cx="508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rittmitt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 (in T€) 2008 zu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187560" y="3057480"/>
            <a:ext cx="139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DFG-Exzellenz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je Wissen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aftsstell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8 zu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4135680" y="62856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Forschungs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31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0_AR_NRW_LFB_FE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2_AR_NRW_LFB_F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167640" y="437184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7108640" y="437184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5040" y="-63612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5040" y="151606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167640" y="4325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17108640" y="4325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81400" y="-26208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81400" y="113252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4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167640" y="445608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17108640" y="445608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43280" y="-60800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3280" y="150462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4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062880" y="449280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7213400" y="449280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7400" y="-18730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109123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167640" y="403560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7108640" y="403560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7400" y="-87044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97400" y="168289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1167640" y="4370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7108640" y="4370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27760" y="-167004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27760" y="1046304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2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062880" y="43243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7213400" y="43243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76840" y="-264780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6840" y="1134900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062880" y="4524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17213400" y="4524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41920" y="-466092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1376352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511280" y="765000"/>
            <a:ext cx="7732800" cy="52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67640" y="4290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7108640" y="4290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9400" y="-33354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9400" y="119714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4" name="Picture 273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3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3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00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66356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978640" y="4172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17297280" y="4172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84960" y="-136238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849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99560" y="3492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99560" y="65660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1167640" y="4811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17108640" y="4811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100202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4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2004 nicht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062880" y="4176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17213400" y="4176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32240" y="-131205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32240" y="215265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5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062880" y="3898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7213400" y="3898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95800" y="-115696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95800" y="194216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062880" y="3540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17213400" y="3540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942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42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5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062880" y="4010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17213400" y="4010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5640" y="-119919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65640" y="200674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8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167640" y="41655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7108640" y="41655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08400" y="-59799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08400" y="1436364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9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9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582560" y="1079640"/>
            <a:ext cx="7466040" cy="45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167640" y="3738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17108640" y="3738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-136047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220503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062880" y="455616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7213400" y="455616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926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926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9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167640" y="4222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-17108640" y="4222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52720" y="-75344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52720" y="160336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08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0981880" y="4064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-17294400" y="4064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232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232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2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1167640" y="4556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-17108640" y="4556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92800" y="-5335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2800" y="96994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92400" y="-17226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2400" y="86374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3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70840" y="65660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040560" y="410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-17235360" y="410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59440" y="-996300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59440" y="18230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5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110400" y="293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17165520" y="293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661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5661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6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062880" y="4799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7213400" y="4799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84720" y="862488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1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062880" y="3925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-17213400" y="3925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291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291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1167640" y="407052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17108640" y="407052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760" y="-127285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30760" y="209199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04160" y="65660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4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4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9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1167640" y="4505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7108640" y="4505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17800" y="-50371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17800" y="14103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4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1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"/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1167640" y="3755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-17108640" y="3755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703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703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4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167640" y="1751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7108640" y="1751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7645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7645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4"/>
          <p:cNvSpPr/>
          <p:nvPr/>
        </p:nvSpPr>
        <p:spPr>
          <a:xfrm>
            <a:off x="186840" y="352440"/>
            <a:ext cx="2973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rst. Kunst, Film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rnsehen, Theater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167640" y="39132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7108640" y="39132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7440" y="-1126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27440" y="191451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0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1167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7108640" y="3430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51" name="Picture 11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062880" y="45226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7213400" y="45226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5200" y="-58420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5200" y="149400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9" name="Picture 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167640" y="276084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7108640" y="276084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693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693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154800" y="352440"/>
            <a:ext cx="27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062880" y="3660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7213400" y="3660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179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179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167640" y="4548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7108640" y="4548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3680" y="-53038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3680" y="14454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A.Krueger</cp:lastModifiedBy>
  <dcterms:modified xsi:type="dcterms:W3CDTF">2013-06-20T12:33:39Z</dcterms:modified>
  <cp:revision>337</cp:revision>
  <dc:subject/>
  <dc:title>Folie 1</dc:title>
</cp:coreProperties>
</file>