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41.png" ContentType="image/png"/>
  <Override PartName="/ppt/media/image35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4.wmf" ContentType="image/x-wmf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5.wmf" ContentType="image/x-wmf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652920" y="5948280"/>
            <a:ext cx="380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rittmitte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 Wissenschaftsstelle (in T€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7"/>
          <p:cNvSpPr/>
          <p:nvPr/>
        </p:nvSpPr>
        <p:spPr>
          <a:xfrm>
            <a:off x="97920" y="3057480"/>
            <a:ext cx="16358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FG-Exzellen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e Wissenschafts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8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11_AR_NRW_LFB_FE_Historie_Grafi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7_AR_NRW_LFB_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12_AR_NRW_LFB_F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Sprach- und Kul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5"/>
          <p:cNvSpPr/>
          <p:nvPr/>
        </p:nvSpPr>
        <p:spPr>
          <a:xfrm>
            <a:off x="184680" y="628560"/>
            <a:ext cx="28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listik, Amerikan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lawistik Baltistik Finno-Ugr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5"/>
          <p:cNvSpPr/>
          <p:nvPr/>
        </p:nvSpPr>
        <p:spPr>
          <a:xfrm>
            <a:off x="153000" y="352440"/>
            <a:ext cx="195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awistik, Baltistik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no-Ugr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/ Außereurop. Sprach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d Kul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Rechts-, Wirtschafts-, Sozial-, Erziehungs-, Agrar- und Ernährungswissenschaften an Universität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nge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9" name="Rectangle 2728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2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3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3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3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6"/>
          <p:cNvSpPr/>
          <p:nvPr/>
        </p:nvSpPr>
        <p:spPr>
          <a:xfrm>
            <a:off x="163800" y="352440"/>
            <a:ext cx="289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mediz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67"/>
          <p:cNvSpPr/>
          <p:nvPr/>
        </p:nvSpPr>
        <p:spPr>
          <a:xfrm>
            <a:off x="826920" y="1798560"/>
            <a:ext cx="806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im Analyseraster 2010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Mathematik und Na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6"/>
          <p:cNvSpPr/>
          <p:nvPr/>
        </p:nvSpPr>
        <p:spPr>
          <a:xfrm>
            <a:off x="157320" y="628560"/>
            <a:ext cx="24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, Astronom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5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ho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6" name="Rectangle 689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9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9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9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z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1511280" y="1125360"/>
            <a:ext cx="7704000" cy="47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gra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hne Geograph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Ingenie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so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Bergbau Hüttenwese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7"/>
          <p:cNvSpPr/>
          <p:nvPr/>
        </p:nvSpPr>
        <p:spPr>
          <a:xfrm>
            <a:off x="158040" y="628560"/>
            <a:ext cx="28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gbau, Hüttenwes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Kunst, Musik, Gestaltung und Sport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5"/>
          <p:cNvSpPr/>
          <p:nvPr/>
        </p:nvSpPr>
        <p:spPr>
          <a:xfrm>
            <a:off x="138960" y="352440"/>
            <a:ext cx="215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dende Kun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geschicht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"/>
          <p:cNvPicPr/>
          <p:nvPr/>
        </p:nvPicPr>
        <p:blipFill>
          <a:blip r:embed="rId7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s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"/>
          <p:cNvPicPr/>
          <p:nvPr/>
        </p:nvPicPr>
        <p:blipFill>
          <a:blip r:embed="rId1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2" descr=""/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"/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"/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5"/>
          <p:cNvSpPr/>
          <p:nvPr/>
        </p:nvSpPr>
        <p:spPr>
          <a:xfrm>
            <a:off x="148680" y="62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usik, Musik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Film_u_Theater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"/>
          <p:cNvPicPr/>
          <p:nvPr/>
        </p:nvPicPr>
        <p:blipFill>
          <a:blip r:embed="rId1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2" descr=""/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"/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4" descr=""/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5"/>
          <p:cNvSpPr/>
          <p:nvPr/>
        </p:nvSpPr>
        <p:spPr>
          <a:xfrm>
            <a:off x="149040" y="352440"/>
            <a:ext cx="261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ater-, Film- u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rnsehwissenschaf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1" descr=""/>
          <p:cNvPicPr/>
          <p:nvPr/>
        </p:nvPicPr>
        <p:blipFill>
          <a:blip r:embed="rId1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"/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4" descr=""/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chi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280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157680" y="352440"/>
            <a:ext cx="2716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n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mmunikations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philologie (Klassisc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log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4241880" y="628560"/>
            <a:ext cx="323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Forschungserfolg 2010+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04000" cy="478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A.Krueger</cp:lastModifiedBy>
  <dcterms:modified xsi:type="dcterms:W3CDTF">2013-06-20T11:50:14Z</dcterms:modified>
  <cp:revision>200</cp:revision>
  <dc:subject/>
  <dc:title>Folie 1</dc:title>
</cp:coreProperties>
</file>