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29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7.png" ContentType="image/png"/>
  <Override PartName="/ppt/media/image4.wmf" ContentType="image/x-wmf"/>
  <Override PartName="/ppt/media/image59.png" ContentType="image/png"/>
  <Override PartName="/ppt/media/image22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5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9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134640" y="352440"/>
            <a:ext cx="183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3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" y="115560"/>
            <a:ext cx="8207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- und Kult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ziehung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48048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rtschaf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5" name="Picture 7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2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723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72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78200" y="352440"/>
            <a:ext cx="2977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undhei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1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2"/>
          <p:cNvSpPr/>
          <p:nvPr/>
        </p:nvSpPr>
        <p:spPr>
          <a:xfrm>
            <a:off x="826920" y="1798560"/>
            <a:ext cx="8066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im Analyseraster 2010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1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4578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9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0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86"/>
          <p:cNvSpPr/>
          <p:nvPr/>
        </p:nvSpPr>
        <p:spPr>
          <a:xfrm>
            <a:off x="3444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9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1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2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genieur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3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4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5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6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6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7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7"/>
          <p:cNvSpPr/>
          <p:nvPr/>
        </p:nvSpPr>
        <p:spPr>
          <a:xfrm>
            <a:off x="119520" y="352440"/>
            <a:ext cx="1802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8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293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0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0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244152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1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7"/>
          <p:cNvSpPr/>
          <p:nvPr/>
        </p:nvSpPr>
        <p:spPr>
          <a:xfrm>
            <a:off x="157320" y="84240"/>
            <a:ext cx="1812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rnse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2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rtschaf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34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4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7"/>
          <p:cNvSpPr/>
          <p:nvPr/>
        </p:nvSpPr>
        <p:spPr>
          <a:xfrm>
            <a:off x="178200" y="352440"/>
            <a:ext cx="2977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3517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4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genieur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53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5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6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1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7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chich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2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83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5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8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39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ziehung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03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0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7"/>
          <p:cNvSpPr/>
          <p:nvPr/>
        </p:nvSpPr>
        <p:spPr>
          <a:xfrm>
            <a:off x="132120" y="352440"/>
            <a:ext cx="2326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.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Sprachwiss.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1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2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7"/>
          <p:cNvSpPr/>
          <p:nvPr/>
        </p:nvSpPr>
        <p:spPr>
          <a:xfrm>
            <a:off x="3517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2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1" descr=""/>
          <p:cNvPicPr/>
          <p:nvPr/>
        </p:nvPicPr>
        <p:blipFill>
          <a:blip r:embed="rId5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1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8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4168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5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2840" y="352440"/>
            <a:ext cx="309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kations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195120" y="1798560"/>
            <a:ext cx="875196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1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1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undhei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1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7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2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"/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1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237960" y="1798560"/>
            <a:ext cx="86662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3444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Klassische 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444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37960" y="1798560"/>
            <a:ext cx="8666280" cy="16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bittner</cp:lastModifiedBy>
  <dcterms:modified xsi:type="dcterms:W3CDTF">2013-05-22T14:37:05Z</dcterms:modified>
  <cp:revision>177</cp:revision>
  <dc:subject/>
  <dc:title>Folie 1</dc:title>
</cp:coreProperties>
</file>