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3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9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19"/>
          <p:cNvSpPr/>
          <p:nvPr/>
        </p:nvSpPr>
        <p:spPr>
          <a:xfrm>
            <a:off x="3319200" y="358920"/>
            <a:ext cx="367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04</a:t>
            </a:r>
            <a:br>
              <a:rPr sz="1800"/>
            </a:b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zu 2008, 2009, 2010 und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3"/>
          <p:cNvSpPr/>
          <p:nvPr/>
        </p:nvSpPr>
        <p:spPr>
          <a:xfrm>
            <a:off x="0" y="333360"/>
            <a:ext cx="91346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Diese Datei</a:t>
            </a:r>
            <a:br>
              <a:rPr sz="2400"/>
            </a:b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enthält die Tabellen zur His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Forschungserfolg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a3d6d"/>
                </a:solidFill>
                <a:latin typeface="Verdana"/>
              </a:rPr>
              <a:t>Universitäten</a:t>
            </a: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 und</a:t>
            </a:r>
            <a:r>
              <a:rPr b="1" i="1" lang="en-US" sz="2400" spc="-1" strike="noStrike">
                <a:solidFill>
                  <a:srgbClr val="2a3d6d"/>
                </a:solidFill>
                <a:latin typeface="Verdana"/>
              </a:rPr>
              <a:t> Fachhochschu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0560" y="6380280"/>
            <a:ext cx="46818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Vorblatt Hochschulportfolien Forschungserfolg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S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Paderbor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28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Sieg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27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Wuppertal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32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6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480" y="332640"/>
            <a:ext cx="35924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nn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hein-Sieg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016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6" name="Picture 107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7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7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30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5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16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40" y="332640"/>
            <a:ext cx="344952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lsenkir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25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21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Niederrhei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" y="332640"/>
            <a:ext cx="344952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Ostwestfalen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ppe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179280" y="1079640"/>
            <a:ext cx="881712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" y="332640"/>
            <a:ext cx="344952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üdwestfal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79280" y="1079640"/>
            <a:ext cx="881712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25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35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n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2657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U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32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480" y="332640"/>
            <a:ext cx="352116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uisburg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s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26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179280" y="1079640"/>
            <a:ext cx="8817120" cy="303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HIS</cp:lastModifiedBy>
  <dcterms:modified xsi:type="dcterms:W3CDTF">2013-06-11T14:53:58Z</dcterms:modified>
  <cp:revision>77</cp:revision>
  <dc:subject/>
  <dc:title>Folie 1</dc:title>
</cp:coreProperties>
</file>