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3077280" y="5948280"/>
            <a:ext cx="508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rittmitt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 Wissenschaftsstelle (in T€) 2008 zu 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70200" y="2878200"/>
            <a:ext cx="181872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stel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8 zu 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28"/>
          <p:cNvSpPr/>
          <p:nvPr/>
        </p:nvSpPr>
        <p:spPr>
          <a:xfrm>
            <a:off x="4135680" y="628560"/>
            <a:ext cx="29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Forschungserfol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29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31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3_AR_NRW_LFB_FE_FH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5_AR_NRW_LFB_FE_FH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569320" y="414036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-16105320" y="414036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037040" y="-1147608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037040" y="1980900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798560" y="1150920"/>
            <a:ext cx="740880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755080" y="464328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-16272000" y="464328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486240" y="-299088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3486240" y="1233000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4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62200" y="1150920"/>
            <a:ext cx="741816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675520" y="393552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-16351200" y="393552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037120" y="-130842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037120" y="2100564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162720" y="352440"/>
            <a:ext cx="2919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F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0653200" y="469260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-16373520" y="469260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098960" y="-196380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098960" y="1139976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4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0675520" y="441180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-16351200" y="441180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3125880" y="-309096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125880" y="1196496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569320" y="4578480"/>
            <a:ext cx="0" cy="507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-16105320" y="4578480"/>
            <a:ext cx="0" cy="507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092560" y="-230184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092560" y="115092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08800" cy="46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712240" y="423720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-16314840" y="423720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970440" y="-216072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970440" y="1068696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4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0732760" y="422604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-16293960" y="422604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584600" y="-50706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584600" y="1357488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732760" y="382104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-16293960" y="382104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417920" y="-1312236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417920" y="213660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675520" y="462276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-16351200" y="462276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549600" y="-1010592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194040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680200" y="374508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-16173360" y="374508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5923080" y="-1218888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5923080" y="1972944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762200" y="1150920"/>
            <a:ext cx="744696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4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5821200" y="939492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54360" y="70956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7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683440" y="513072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-16343280" y="513072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8089920" y="9764640"/>
            <a:ext cx="522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4"/>
          <p:cNvSpPr/>
          <p:nvPr/>
        </p:nvSpPr>
        <p:spPr>
          <a:xfrm>
            <a:off x="171720" y="352440"/>
            <a:ext cx="301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F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69056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675520" y="324468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-16351200" y="324468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5033880" y="-1312236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5033880" y="213660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675520" y="364968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-16351200" y="364968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-1312236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4479840" y="213660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675520" y="436104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-16351200" y="4361040"/>
            <a:ext cx="0" cy="522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732760" y="430524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-16293960" y="430524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735440" y="-34164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735440" y="1207764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675520" y="183672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-16351200" y="1836720"/>
            <a:ext cx="0" cy="525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8626320" y="-1312236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8626320" y="21366000"/>
            <a:ext cx="5256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727280" y="1150920"/>
            <a:ext cx="74851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bittner</cp:lastModifiedBy>
  <dcterms:modified xsi:type="dcterms:W3CDTF">2013-05-22T14:40:38Z</dcterms:modified>
  <cp:revision>164</cp:revision>
  <dc:subject/>
  <dc:title>Folie 1</dc:title>
</cp:coreProperties>
</file>