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1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68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16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68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16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0728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1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-533520">
              <a:spcBef>
                <a:spcPts val="700"/>
              </a:spcBef>
              <a:buClr>
                <a:srgbClr val="2a3d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1" marL="979560" indent="-43812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2" marL="1438200" indent="-36180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3" marL="1981080" indent="-36180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4" marL="2332080" indent="-36216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5" marL="2332080" indent="-36216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6" marL="2332080" indent="-36216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3132000" y="6505560"/>
            <a:ext cx="4680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2050920" y="6237360"/>
            <a:ext cx="7093080" cy="71280"/>
          </a:xfrm>
          <a:prstGeom prst="rect">
            <a:avLst/>
          </a:prstGeom>
          <a:solidFill>
            <a:srgbClr val="2a3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21"/>
          <p:cNvSpPr/>
          <p:nvPr/>
        </p:nvSpPr>
        <p:spPr>
          <a:xfrm>
            <a:off x="0" y="6297480"/>
            <a:ext cx="1468440" cy="306360"/>
          </a:xfrm>
          <a:custGeom>
            <a:avLst/>
            <a:gdLst>
              <a:gd name="textAreaLeft" fmla="*/ 19800 w 1468440"/>
              <a:gd name="textAreaRight" fmla="*/ 1448640 w 146844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103437" h="21600">
                <a:moveTo>
                  <a:pt x="0" y="0"/>
                </a:moveTo>
                <a:lnTo>
                  <a:pt x="103437" y="0"/>
                </a:lnTo>
                <a:lnTo>
                  <a:pt x="103437" y="21600"/>
                </a:lnTo>
                <a:lnTo>
                  <a:pt x="0" y="21600"/>
                </a:lnTo>
                <a:close/>
              </a:path>
              <a:path fill="lightenLess" w="103437" h="21600">
                <a:moveTo>
                  <a:pt x="0" y="0"/>
                </a:moveTo>
                <a:lnTo>
                  <a:pt x="103437" y="0"/>
                </a:lnTo>
                <a:lnTo>
                  <a:pt x="102037" y="1400"/>
                </a:lnTo>
                <a:lnTo>
                  <a:pt x="1400" y="1400"/>
                </a:lnTo>
                <a:close/>
              </a:path>
              <a:path fill="darken" w="103437" h="21600">
                <a:moveTo>
                  <a:pt x="103437" y="0"/>
                </a:moveTo>
                <a:lnTo>
                  <a:pt x="103437" y="21600"/>
                </a:lnTo>
                <a:lnTo>
                  <a:pt x="102037" y="20200"/>
                </a:lnTo>
                <a:lnTo>
                  <a:pt x="102037" y="1400"/>
                </a:lnTo>
                <a:close/>
              </a:path>
              <a:path fill="darkenLess" w="103437" h="21600">
                <a:moveTo>
                  <a:pt x="103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037" y="20200"/>
                </a:lnTo>
                <a:close/>
              </a:path>
              <a:path fill="lighten" w="103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a6d1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Beend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26"/>
          <p:cNvSpPr/>
          <p:nvPr/>
        </p:nvSpPr>
        <p:spPr>
          <a:xfrm>
            <a:off x="4135680" y="628560"/>
            <a:ext cx="296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Forschungs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28" descr="NRW_MIWF_RGB"/>
          <p:cNvPicPr/>
          <p:nvPr/>
        </p:nvPicPr>
        <p:blipFill>
          <a:blip r:embed="rId2"/>
          <a:stretch/>
        </p:blipFill>
        <p:spPr>
          <a:xfrm>
            <a:off x="7088040" y="6451560"/>
            <a:ext cx="1587600" cy="32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4_AR_NRW_LFB_FE_FH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4_AR_NRW_LFB_FE_FH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4_AR_NRW_LFB_FE_FH_Historie_Grafik.ppt" TargetMode="Externa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4_AR_NRW_LFB_FE_FH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4_AR_NRW_LFB_FE_FH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4_AR_NRW_LFB_FE_FH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4_AR_NRW_LFB_FE_FH_Historie_Grafik.ppt" TargetMode="Externa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4_AR_NRW_LFB_FE_FH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4_AR_NRW_LFB_FE_FH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4_AR_NRW_LFB_FE_FH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4_AR_NRW_LFB_FE_FH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4_AR_NRW_LFB_FE_FH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4_AR_NRW_LFB_FE_FH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4_AR_NRW_LFB_FE_FH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4_AR_NRW_LFB_FE_FH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4_AR_NRW_LFB_FE_FH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4_AR_NRW_LFB_FE_FH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4_AR_NRW_LFB_FE_FH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a3d6d"/>
                </a:solidFill>
                <a:latin typeface="Verdana"/>
              </a:rPr>
              <a:t>Ingenieur- und Wirtschaftswissenschaften an Fachhochschulen</a:t>
            </a:r>
            <a:endParaRPr b="0" lang="en-US" sz="26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schinenbau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fahrenstechnik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79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719280" y="1798560"/>
            <a:ext cx="7732440" cy="27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ektrotechnik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83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719280" y="1798560"/>
            <a:ext cx="773244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onst. Ingenieur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ssen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87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3"/>
          <p:cNvSpPr/>
          <p:nvPr/>
        </p:nvSpPr>
        <p:spPr>
          <a:xfrm>
            <a:off x="826920" y="1798560"/>
            <a:ext cx="763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ser Lehr- und Forschungsbereich war nur 2004 vorhanden. Eine Darstellung der Historie entfä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a3d6d"/>
                </a:solidFill>
                <a:latin typeface="Verdana"/>
              </a:rPr>
              <a:t>Mathematik, Natur-, Wirtschafts- und Sozialwissenschaften,</a:t>
            </a:r>
            <a:br>
              <a:rPr sz="2600"/>
            </a:br>
            <a:r>
              <a:rPr b="0" lang="en-US" sz="2600" spc="-1" strike="noStrike">
                <a:solidFill>
                  <a:srgbClr val="2a3d6d"/>
                </a:solidFill>
                <a:latin typeface="Verdana"/>
              </a:rPr>
              <a:t>Design, Sprach-, Ernährungs- und Informationswissenschaften an Fachhochschulen</a:t>
            </a:r>
            <a:endParaRPr b="0" lang="en-US" sz="26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5734080"/>
            <a:ext cx="152388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ziehungswissen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94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719280" y="1798560"/>
            <a:ext cx="773244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Bibliothekswiss Dokumentation (FH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98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3"/>
          <p:cNvSpPr/>
          <p:nvPr/>
        </p:nvSpPr>
        <p:spPr>
          <a:xfrm>
            <a:off x="162720" y="352440"/>
            <a:ext cx="2919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edien- u. Kommuni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ationswissenschaften (F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719280" y="1798560"/>
            <a:ext cx="773244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llg. u. vergl. Literatur- u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prachwissen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03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719280" y="1798560"/>
            <a:ext cx="773244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zialwissen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07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3"/>
          <p:cNvSpPr/>
          <p:nvPr/>
        </p:nvSpPr>
        <p:spPr>
          <a:xfrm>
            <a:off x="826920" y="1798560"/>
            <a:ext cx="763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ser Lehr- und Forschungsbereich war nur 2004 vorhanden. Eine Darstellung der Historie entfä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zialwes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11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719280" y="1798560"/>
            <a:ext cx="7732440" cy="19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thematik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15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719280" y="1798560"/>
            <a:ext cx="773244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rtschaftswissen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46" name="Picture 1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19280" y="1798560"/>
            <a:ext cx="773244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ormatik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19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719280" y="1798560"/>
            <a:ext cx="773244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ysik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23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"/>
          <p:cNvPicPr/>
          <p:nvPr/>
        </p:nvPicPr>
        <p:blipFill>
          <a:blip r:embed="rId3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719280" y="1798560"/>
            <a:ext cx="7732440" cy="16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emie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27" name="Picture 11" descr=""/>
          <p:cNvPicPr/>
          <p:nvPr/>
        </p:nvPicPr>
        <p:blipFill>
          <a:blip r:embed="rId1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"/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719280" y="1798560"/>
            <a:ext cx="7732440" cy="19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sundheitswissenschaft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gemei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31" name="Picture 11" descr=""/>
          <p:cNvPicPr/>
          <p:nvPr/>
        </p:nvPicPr>
        <p:blipFill>
          <a:blip r:embed="rId1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"/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719280" y="1798560"/>
            <a:ext cx="77324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Kunst_Kunstwiss (FH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1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"/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3"/>
          <p:cNvSpPr/>
          <p:nvPr/>
        </p:nvSpPr>
        <p:spPr>
          <a:xfrm>
            <a:off x="150480" y="352440"/>
            <a:ext cx="2256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unst, Kunstwissen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aft allgemein (F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719280" y="1798560"/>
            <a:ext cx="773244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staltung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40" name="Picture 11" descr=""/>
          <p:cNvPicPr/>
          <p:nvPr/>
        </p:nvPicPr>
        <p:blipFill>
          <a:blip r:embed="rId1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"/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19280" y="1798560"/>
            <a:ext cx="7732440" cy="21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AgrarLebensmittel-Getränketechnologie (FH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50" name="Picture 1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5"/>
          <p:cNvSpPr/>
          <p:nvPr/>
        </p:nvSpPr>
        <p:spPr>
          <a:xfrm>
            <a:off x="171720" y="352440"/>
            <a:ext cx="3012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grarwiss., Lebensmittel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u. Getränketechnologie (F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719280" y="1798560"/>
            <a:ext cx="773244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rnährungs- u. Haushalts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ssen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55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719280" y="1798560"/>
            <a:ext cx="77324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genieurwissenschaft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gemei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59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719280" y="1798560"/>
            <a:ext cx="77324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chitektur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63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719280" y="1798560"/>
            <a:ext cx="773244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aumplanung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67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19280" y="1798560"/>
            <a:ext cx="773244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uingenieurwes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71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719280" y="1798560"/>
            <a:ext cx="7732440" cy="19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messungswes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75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719280" y="1798560"/>
            <a:ext cx="7732440" cy="112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2:21:56Z</dcterms:created>
  <dc:creator>zwiorek</dc:creator>
  <dc:description/>
  <dc:language>en-US</dc:language>
  <cp:lastModifiedBy>bittner</cp:lastModifiedBy>
  <dcterms:modified xsi:type="dcterms:W3CDTF">2013-05-22T14:41:02Z</dcterms:modified>
  <cp:revision>110</cp:revision>
  <dc:subject/>
  <dc:title>Folie 1</dc:title>
</cp:coreProperties>
</file>