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29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21.png" ContentType="image/png"/>
  <Override PartName="/ppt/media/image3.wmf" ContentType="image/x-wmf"/>
  <Override PartName="/ppt/media/image58.png" ContentType="image/png"/>
  <Override PartName="/ppt/media/image22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7.png" ContentType="image/png"/>
  <Override PartName="/ppt/media/image24.png" ContentType="image/png"/>
  <Override PartName="/ppt/media/image61.png" ContentType="image/png"/>
  <Override PartName="/ppt/media/image63.png" ContentType="image/png"/>
  <Override PartName="/ppt/media/image26.png" ContentType="image/png"/>
  <Override PartName="/ppt/media/image23.png" ContentType="image/png"/>
  <Override PartName="/ppt/media/image60.png" ContentType="image/png"/>
  <Override PartName="/ppt/media/image59.png" ContentType="image/png"/>
  <Override PartName="/ppt/media/image4.wmf" ContentType="image/x-wmf"/>
  <Override PartName="/ppt/media/image10.png" ContentType="image/png"/>
  <Override PartName="/ppt/media/image47.png" ContentType="image/png"/>
  <Override PartName="/ppt/media/image5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6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41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0728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spcBef>
                <a:spcPts val="700"/>
              </a:spcBef>
              <a:buClr>
                <a:srgbClr val="2a3d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1" marL="979560" indent="-43812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2" marL="143820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3" marL="198108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4" marL="2332080" indent="-36216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5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6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132000" y="6505560"/>
            <a:ext cx="468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2050920" y="6237360"/>
            <a:ext cx="7093080" cy="71280"/>
          </a:xfrm>
          <a:prstGeom prst="rect">
            <a:avLst/>
          </a:prstGeom>
          <a:solidFill>
            <a:srgbClr val="2a3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21"/>
          <p:cNvSpPr/>
          <p:nvPr/>
        </p:nvSpPr>
        <p:spPr>
          <a:xfrm>
            <a:off x="0" y="6297480"/>
            <a:ext cx="1468440" cy="306360"/>
          </a:xfrm>
          <a:custGeom>
            <a:avLst/>
            <a:gdLst>
              <a:gd name="textAreaLeft" fmla="*/ 19800 w 1468440"/>
              <a:gd name="textAreaRight" fmla="*/ 1448640 w 14684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103437" h="21600">
                <a:moveTo>
                  <a:pt x="0" y="0"/>
                </a:moveTo>
                <a:lnTo>
                  <a:pt x="103437" y="0"/>
                </a:lnTo>
                <a:lnTo>
                  <a:pt x="103437" y="21600"/>
                </a:lnTo>
                <a:lnTo>
                  <a:pt x="0" y="21600"/>
                </a:lnTo>
                <a:close/>
              </a:path>
              <a:path fill="lightenLess" w="103437" h="21600">
                <a:moveTo>
                  <a:pt x="0" y="0"/>
                </a:moveTo>
                <a:lnTo>
                  <a:pt x="103437" y="0"/>
                </a:lnTo>
                <a:lnTo>
                  <a:pt x="102037" y="1400"/>
                </a:lnTo>
                <a:lnTo>
                  <a:pt x="1400" y="1400"/>
                </a:lnTo>
                <a:close/>
              </a:path>
              <a:path fill="darken" w="103437" h="21600">
                <a:moveTo>
                  <a:pt x="103437" y="0"/>
                </a:moveTo>
                <a:lnTo>
                  <a:pt x="103437" y="21600"/>
                </a:lnTo>
                <a:lnTo>
                  <a:pt x="102037" y="20200"/>
                </a:lnTo>
                <a:lnTo>
                  <a:pt x="102037" y="1400"/>
                </a:lnTo>
                <a:close/>
              </a:path>
              <a:path fill="darkenLess" w="103437" h="21600">
                <a:moveTo>
                  <a:pt x="103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037" y="20200"/>
                </a:lnTo>
                <a:close/>
              </a:path>
              <a:path fill="lighten" w="103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Beend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3"/>
          <p:cNvSpPr/>
          <p:nvPr/>
        </p:nvSpPr>
        <p:spPr>
          <a:xfrm>
            <a:off x="169920" y="3022560"/>
            <a:ext cx="123804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uslastu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%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8 und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4"/>
          <p:cNvSpPr/>
          <p:nvPr/>
        </p:nvSpPr>
        <p:spPr>
          <a:xfrm>
            <a:off x="3375360" y="5948280"/>
            <a:ext cx="440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bsolventenäquival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 Wissenschaftss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6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8" descr="NRW_MIWF_RGB"/>
          <p:cNvPicPr/>
          <p:nvPr/>
        </p:nvPicPr>
        <p:blipFill>
          <a:blip r:embed="rId2"/>
          <a:stretch/>
        </p:blipFill>
        <p:spPr>
          <a:xfrm>
            <a:off x="7088040" y="6451560"/>
            <a:ext cx="1587600" cy="3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40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41.png"/><Relationship Id="rId10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44.png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46.png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3_AR_NRW_LFB_FE_FH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49.png"/><Relationship Id="rId10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3_AR_NRW_LFB_FE_FH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3_AR_NRW_LFB_FE_FH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51.png"/><Relationship Id="rId10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3_AR_NRW_LFB_FE_FH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52.png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3_AR_NRW_LFB_FE_FH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53.png"/><Relationship Id="rId10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3_AR_NRW_LFB_FE_FH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54.pn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3_AR_NRW_LFB_FE_FH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55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3_AR_NRW_LFB_FE_FH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5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3_AR_NRW_LFB_FE_FH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57.png"/><Relationship Id="rId10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3_AR_NRW_LFB_FE_FH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58.png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3_AR_NRW_LFB_FE_FH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3_AR_NRW_LFB_FE_FH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59.png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3_AR_NRW_LFB_FE_FH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60.png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3_AR_NRW_LFB_FE_FH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61.png"/><Relationship Id="rId10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3_AR_NRW_LFB_FE_FH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3_AR_NRW_LFB_FE_FH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62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3_AR_NRW_LFB_FE_FH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63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3_AR_NRW_LFB_FE_FH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64.png"/><Relationship Id="rId10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10_AR_NRW_LFB_F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Sprach- und Kulturwissenschaften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1142440" y="33274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17130600" y="33274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18080" y="-1360332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18080" y="2205684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rmanis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42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1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1143880" y="3024360"/>
            <a:ext cx="0" cy="5364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7132400" y="3024360"/>
            <a:ext cx="0" cy="5364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70560" y="-1346040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70560" y="2219472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Anglistik Amerikanistik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53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5"/>
          <p:cNvSpPr/>
          <p:nvPr/>
        </p:nvSpPr>
        <p:spPr>
          <a:xfrm>
            <a:off x="184680" y="628560"/>
            <a:ext cx="287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glistik, Amerikanistik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1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1143880" y="2962440"/>
            <a:ext cx="0" cy="5544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17132400" y="2962440"/>
            <a:ext cx="0" cy="5544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35560" y="-13604760"/>
            <a:ext cx="554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35560" y="22050360"/>
            <a:ext cx="554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manis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65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1143880" y="35402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17132400" y="35402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3420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3420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Slawistik Baltistik Finno-Ugristik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76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5"/>
          <p:cNvSpPr/>
          <p:nvPr/>
        </p:nvSpPr>
        <p:spPr>
          <a:xfrm>
            <a:off x="153000" y="352440"/>
            <a:ext cx="1959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lawistik, Baltistik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nno-Ugristik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1143880" y="314172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17132400" y="314172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0540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0540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onst./ Außereurop. Sprach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nd Kultur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88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Rechts-, Wirtschafts-, Sozial-, Erziehungs-, Agrar- und Ernährungswissenschaften an Universitäten</a:t>
            </a:r>
            <a:endParaRPr b="0" lang="en-US" sz="26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1143880" y="33116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17132400" y="33116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24560" y="-13604760"/>
            <a:ext cx="536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24560" y="22050360"/>
            <a:ext cx="536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ziehungs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02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3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9464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1143880" y="264312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-17132400" y="264312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9276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276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hts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1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3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143880" y="243216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1672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1672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tschafts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2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3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952560" y="1028880"/>
            <a:ext cx="7732800" cy="48006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1143880" y="252720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-17132400" y="252720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54480" y="-13604760"/>
            <a:ext cx="558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54480" y="22050360"/>
            <a:ext cx="558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35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3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374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1143880" y="336852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7132400" y="336852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81320" y="-1367640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81320" y="2197908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ngelische The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53" name="Picture 71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72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728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72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730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8"/>
          <p:cNvSpPr/>
          <p:nvPr/>
        </p:nvSpPr>
        <p:spPr>
          <a:xfrm>
            <a:off x="0" y="5589720"/>
            <a:ext cx="153360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es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4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3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9"/>
          <a:stretch/>
        </p:blipFill>
        <p:spPr>
          <a:xfrm>
            <a:off x="1474920" y="1150920"/>
            <a:ext cx="773244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1143880" y="181296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-17132400" y="181296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6244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76244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AgrarLebensmittel-Getränketechnologie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54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3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6"/>
          <p:cNvSpPr/>
          <p:nvPr/>
        </p:nvSpPr>
        <p:spPr>
          <a:xfrm>
            <a:off x="163800" y="352440"/>
            <a:ext cx="2891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grarwiss., Lebensmittel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. Getränketechnologie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316"/>
          <p:cNvSpPr/>
          <p:nvPr/>
        </p:nvSpPr>
        <p:spPr>
          <a:xfrm>
            <a:off x="1582560" y="1187280"/>
            <a:ext cx="760428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9"/>
          <a:stretch/>
        </p:blipFill>
        <p:spPr>
          <a:xfrm>
            <a:off x="1619280" y="1150920"/>
            <a:ext cx="746604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1143880" y="35830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-17132400" y="35830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4680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44680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nährungs- u. Haushalts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67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3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8"/>
          <p:cNvSpPr/>
          <p:nvPr/>
        </p:nvSpPr>
        <p:spPr>
          <a:xfrm>
            <a:off x="0" y="5589720"/>
            <a:ext cx="153360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undheits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gemei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75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3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5"/>
          <p:cNvSpPr/>
          <p:nvPr/>
        </p:nvSpPr>
        <p:spPr>
          <a:xfrm>
            <a:off x="0" y="1484280"/>
            <a:ext cx="9067680" cy="47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8 vorhanden. Eine Darstellung der Historie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7"/>
          <p:cNvSpPr/>
          <p:nvPr/>
        </p:nvSpPr>
        <p:spPr>
          <a:xfrm>
            <a:off x="0" y="5589720"/>
            <a:ext cx="153360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umanmedizi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85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Mathematik und Naturwissenschaften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1143880" y="362412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-17132400" y="362412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-13604760"/>
            <a:ext cx="554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22050360"/>
            <a:ext cx="554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thema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98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13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1143880" y="3021120"/>
            <a:ext cx="0" cy="5544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-17132400" y="3021120"/>
            <a:ext cx="0" cy="5544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2460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2460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a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09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46604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1143880" y="392112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-17132400" y="392112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8452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8452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Physik Astronomie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19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3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6"/>
          <p:cNvSpPr/>
          <p:nvPr/>
        </p:nvSpPr>
        <p:spPr>
          <a:xfrm>
            <a:off x="157320" y="628560"/>
            <a:ext cx="242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ysik, Astronomie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374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1143880" y="329256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17132400" y="329256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05764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05764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em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31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13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46604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143880" y="33814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7132400" y="33814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5768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5768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atholische The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64" name="Picture 68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9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91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9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9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1143880" y="199872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-17132400" y="199872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71984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71984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armaz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42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13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46604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1143880" y="24526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-17132400" y="24526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837400" y="-13604760"/>
            <a:ext cx="536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37400" y="22050360"/>
            <a:ext cx="536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5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13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1143880" y="275580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-17132400" y="275580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7348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07348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ograph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64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13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21143880" y="3338640"/>
            <a:ext cx="0" cy="5544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-17132400" y="3338640"/>
            <a:ext cx="0" cy="5544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4796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4796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o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ohne Geographie)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75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Ingenieurwissenschaften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7"/>
          <p:cNvSpPr/>
          <p:nvPr/>
        </p:nvSpPr>
        <p:spPr>
          <a:xfrm>
            <a:off x="0" y="5589720"/>
            <a:ext cx="153360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genieur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gemei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86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1143880" y="32050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-17132400" y="32050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01020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1020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chitektur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97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1143880" y="194472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-17132400" y="194472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4344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74344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umplanung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08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46604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1143880" y="389412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-17132400" y="389412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503600" y="-13604760"/>
            <a:ext cx="558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503600" y="22050360"/>
            <a:ext cx="558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uingenieurwes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19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1062880" y="22478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-17213400" y="22478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2324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02324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messungswes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30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9">
            <a:lum bright="2000"/>
          </a:blip>
          <a:stretch/>
        </p:blipFill>
        <p:spPr>
          <a:xfrm>
            <a:off x="1511280" y="1150920"/>
            <a:ext cx="746604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143880" y="37972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17132400" y="37972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46760" y="-13604760"/>
            <a:ext cx="554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46760" y="22050360"/>
            <a:ext cx="554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osoph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75" name="Picture 1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6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7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8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21143880" y="311796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-17132400" y="311796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9728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69728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schinenbau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fahrenstechn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41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46604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21143880" y="3516480"/>
            <a:ext cx="0" cy="5364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-17132400" y="3516480"/>
            <a:ext cx="0" cy="5364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611680" y="-13604760"/>
            <a:ext cx="558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611680" y="22050360"/>
            <a:ext cx="558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ktrotechn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52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1143880" y="2629080"/>
            <a:ext cx="0" cy="5364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-17132400" y="2629080"/>
            <a:ext cx="0" cy="5364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48904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48904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Bergbau Hüttenwesen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63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15"/>
          <p:cNvSpPr/>
          <p:nvPr/>
        </p:nvSpPr>
        <p:spPr>
          <a:xfrm>
            <a:off x="158040" y="628560"/>
            <a:ext cx="2846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rgbau, Hüttenwesen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46604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5"/>
          <p:cNvSpPr/>
          <p:nvPr/>
        </p:nvSpPr>
        <p:spPr>
          <a:xfrm>
            <a:off x="0" y="1484280"/>
            <a:ext cx="9067680" cy="47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6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der Historie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7"/>
          <p:cNvSpPr/>
          <p:nvPr/>
        </p:nvSpPr>
        <p:spPr>
          <a:xfrm>
            <a:off x="0" y="5589720"/>
            <a:ext cx="153360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onst. Ingenieu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74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Kunst, Musik, Gestaltung und Sport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81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21143880" y="333540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-17132400" y="333540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718160" y="-13604760"/>
            <a:ext cx="554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718160" y="22050360"/>
            <a:ext cx="554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Kunst_Kunstwiss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87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15"/>
          <p:cNvSpPr/>
          <p:nvPr/>
        </p:nvSpPr>
        <p:spPr>
          <a:xfrm>
            <a:off x="138960" y="352440"/>
            <a:ext cx="2158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unst, Kunst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 allgemein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5"/>
          <p:cNvSpPr/>
          <p:nvPr/>
        </p:nvSpPr>
        <p:spPr>
          <a:xfrm>
            <a:off x="0" y="1484280"/>
            <a:ext cx="9067680" cy="47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6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der Historie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7"/>
          <p:cNvSpPr/>
          <p:nvPr/>
        </p:nvSpPr>
        <p:spPr>
          <a:xfrm>
            <a:off x="0" y="5589720"/>
            <a:ext cx="153360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ldende Kuns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unstgeschicht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98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1143880" y="369576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-17132400" y="369576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91328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91328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taltung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508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21143880" y="26668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-17132400" y="26668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93092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93092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Musik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519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15"/>
          <p:cNvSpPr/>
          <p:nvPr/>
        </p:nvSpPr>
        <p:spPr>
          <a:xfrm>
            <a:off x="148680" y="628560"/>
            <a:ext cx="228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usik, Musikwiss.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21143880" y="182736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-17132400" y="182736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45812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45812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Film_u_Theater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531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15"/>
          <p:cNvSpPr/>
          <p:nvPr/>
        </p:nvSpPr>
        <p:spPr>
          <a:xfrm>
            <a:off x="149040" y="352440"/>
            <a:ext cx="2611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ater-, Film- u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rnsehwissenschaft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46604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143880" y="221292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17132400" y="221292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37040" y="-1346040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7040" y="2219472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sych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86" name="Picture 1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6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7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8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1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21143880" y="24112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-17132400" y="24112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94028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94028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ort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543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46604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Ingenieur- und Wirtschaftswissenschaften an Fachhochschulen</a:t>
            </a:r>
            <a:endParaRPr b="0" lang="en-US" sz="26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1143880" y="29084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-17132400" y="29084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921280" y="-13604760"/>
            <a:ext cx="558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921280" y="22050360"/>
            <a:ext cx="558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tschafts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557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46604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21143880" y="270360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-17132400" y="270360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886880" y="-13604760"/>
            <a:ext cx="536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886880" y="22050360"/>
            <a:ext cx="536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AgrarLebensmittel-Getränketechnologie (FH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568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15"/>
          <p:cNvSpPr/>
          <p:nvPr/>
        </p:nvSpPr>
        <p:spPr>
          <a:xfrm>
            <a:off x="171720" y="352440"/>
            <a:ext cx="3012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grarwiss., Lebensmittel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. Getränketechnologie (F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46604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nährungs- u. Haushalts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576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21143880" y="233676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-17132400" y="233676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41852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41852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46604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genieur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gemei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587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21143880" y="2459160"/>
            <a:ext cx="0" cy="5544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-17132400" y="2459160"/>
            <a:ext cx="0" cy="5544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18480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8480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21143880" y="37432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-17132400" y="37432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84352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84352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chitektur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602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21143880" y="2365200"/>
            <a:ext cx="0" cy="558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-17132400" y="2365200"/>
            <a:ext cx="0" cy="558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507520" y="-13604760"/>
            <a:ext cx="554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8507520" y="22050360"/>
            <a:ext cx="554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umplanung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613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21143880" y="357660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-17132400" y="357660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48504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48504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uingenieurwes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624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21143880" y="293040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-17132400" y="293040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41860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41860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messungswes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635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46604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143880" y="349416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17132400" y="349416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18120" y="-13460400"/>
            <a:ext cx="554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18120" y="22194720"/>
            <a:ext cx="554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chichts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97" name="Picture 1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7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9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1511280" y="907920"/>
            <a:ext cx="7742160" cy="49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21143880" y="241776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-17132400" y="241776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76424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76424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schinenbau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fahrenstechn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646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21143880" y="263052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-17132400" y="263052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934240" y="-13604760"/>
            <a:ext cx="536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934240" y="22050360"/>
            <a:ext cx="536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ktrotechn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657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659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15"/>
          <p:cNvSpPr/>
          <p:nvPr/>
        </p:nvSpPr>
        <p:spPr>
          <a:xfrm>
            <a:off x="0" y="1484280"/>
            <a:ext cx="9067680" cy="47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6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der Historie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7"/>
          <p:cNvSpPr/>
          <p:nvPr/>
        </p:nvSpPr>
        <p:spPr>
          <a:xfrm>
            <a:off x="0" y="5589720"/>
            <a:ext cx="153360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onst. Ingenieu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667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669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Mathematik, Natur-, Wirtschafts- und Sozialwissenschaften,</a:t>
            </a:r>
            <a:br>
              <a:rPr sz="2600"/>
            </a:b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Design, Sprach-, Ernährungs- und Informationswissenschaften an Fachhochschulen</a:t>
            </a:r>
            <a:endParaRPr b="0" lang="en-US" sz="26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ziehungs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676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21143880" y="1644480"/>
            <a:ext cx="0" cy="558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-17132400" y="1644480"/>
            <a:ext cx="0" cy="558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317760" y="-13604760"/>
            <a:ext cx="558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317760" y="22050360"/>
            <a:ext cx="558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46604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Bibliothekswiss Dokumentation (FH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687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15"/>
          <p:cNvSpPr/>
          <p:nvPr/>
        </p:nvSpPr>
        <p:spPr>
          <a:xfrm>
            <a:off x="162720" y="352440"/>
            <a:ext cx="2919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dien- u. Kommuni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ationswissenschaften (F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1143880" y="22352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-17132400" y="22352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863748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863748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1143880" y="22352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-17132400" y="22352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863748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863748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21143880" y="20350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-17132400" y="20350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870912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870912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llg. u. vergl. Literatur- u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prach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707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15"/>
          <p:cNvSpPr/>
          <p:nvPr/>
        </p:nvSpPr>
        <p:spPr>
          <a:xfrm>
            <a:off x="0" y="1484280"/>
            <a:ext cx="9067680" cy="47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6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der Historie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7"/>
          <p:cNvSpPr/>
          <p:nvPr/>
        </p:nvSpPr>
        <p:spPr>
          <a:xfrm>
            <a:off x="0" y="5589720"/>
            <a:ext cx="153360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717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21143880" y="22780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-17132400" y="22780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35940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35940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es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727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1143880" y="31100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-17132400" y="31100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42132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42132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themat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738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143880" y="215280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7132400" y="215280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56360" y="-1367640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56360" y="2197908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Bibliothekswiss Dokumentation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08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154800" y="352440"/>
            <a:ext cx="2798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dien- u. Kommuni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ationswissenschaften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1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21143880" y="30430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-17132400" y="30430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856120" y="-13604760"/>
            <a:ext cx="558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856120" y="22050360"/>
            <a:ext cx="558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at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749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751" name="Rectangle 5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7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21143880" y="243216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-17132400" y="243216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58784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58784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ys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760" name="Picture 10" descr=""/>
          <p:cNvPicPr/>
          <p:nvPr/>
        </p:nvPicPr>
        <p:blipFill>
          <a:blip r:embed="rId1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11" descr=""/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762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13" descr=""/>
          <p:cNvPicPr/>
          <p:nvPr/>
        </p:nvPicPr>
        <p:blipFill>
          <a:blip r:embed="rId3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14" descr=""/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5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emie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767" name="Picture 10" descr=""/>
          <p:cNvPicPr/>
          <p:nvPr/>
        </p:nvPicPr>
        <p:blipFill>
          <a:blip r:embed="rId1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1" descr=""/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769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13" descr=""/>
          <p:cNvPicPr/>
          <p:nvPr/>
        </p:nvPicPr>
        <p:blipFill>
          <a:blip r:embed="rId3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14" descr=""/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21143880" y="22780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-17132400" y="22780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40080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40080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5"/>
          <a:stretch/>
        </p:blipFill>
        <p:spPr>
          <a:xfrm>
            <a:off x="1511280" y="1150920"/>
            <a:ext cx="746604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undheits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gemei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778" name="Picture 10" descr=""/>
          <p:cNvPicPr/>
          <p:nvPr/>
        </p:nvPicPr>
        <p:blipFill>
          <a:blip r:embed="rId1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11" descr=""/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780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Picture 13" descr=""/>
          <p:cNvPicPr/>
          <p:nvPr/>
        </p:nvPicPr>
        <p:blipFill>
          <a:blip r:embed="rId3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14" descr=""/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21143880" y="3984480"/>
            <a:ext cx="0" cy="558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-17132400" y="3984480"/>
            <a:ext cx="0" cy="558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77556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77556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5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Kunst_Kunstwiss (FH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789" name="Picture 10" descr=""/>
          <p:cNvPicPr/>
          <p:nvPr/>
        </p:nvPicPr>
        <p:blipFill>
          <a:blip r:embed="rId1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11" descr=""/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791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13" descr=""/>
          <p:cNvPicPr/>
          <p:nvPr/>
        </p:nvPicPr>
        <p:blipFill>
          <a:blip r:embed="rId3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4" descr=""/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794" name="Rectangle 15"/>
          <p:cNvSpPr/>
          <p:nvPr/>
        </p:nvSpPr>
        <p:spPr>
          <a:xfrm>
            <a:off x="150480" y="352440"/>
            <a:ext cx="2256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unst, Kunst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 allgemein (F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1062880" y="30020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-17213400" y="300204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66416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66416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5"/>
          <a:stretch/>
        </p:blipFill>
        <p:spPr>
          <a:xfrm>
            <a:off x="1511280" y="1150920"/>
            <a:ext cx="745668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21143880" y="221292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-17132400" y="221292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53724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53724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taltung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805" name="Picture 10" descr=""/>
          <p:cNvPicPr/>
          <p:nvPr/>
        </p:nvPicPr>
        <p:blipFill>
          <a:blip r:embed="rId1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11" descr=""/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807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13" descr=""/>
          <p:cNvPicPr/>
          <p:nvPr/>
        </p:nvPicPr>
        <p:blipFill>
          <a:blip r:embed="rId3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4" descr=""/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5"/>
          <a:stretch/>
        </p:blipFill>
        <p:spPr>
          <a:xfrm>
            <a:off x="1511280" y="1150920"/>
            <a:ext cx="746604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llg. u. vergl. Literatur- u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prach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16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1143880" y="28288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17132400" y="2828880"/>
            <a:ext cx="0" cy="5400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51360" y="-136047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51360" y="22050360"/>
            <a:ext cx="5400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4216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1143880" y="3446640"/>
            <a:ext cx="0" cy="5544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17132400" y="3446640"/>
            <a:ext cx="0" cy="5544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05480" y="-13604760"/>
            <a:ext cx="554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05480" y="22050360"/>
            <a:ext cx="55440" cy="0"/>
          </a:xfrm>
          <a:prstGeom prst="line">
            <a:avLst/>
          </a:prstGeom>
          <a:ln w="20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tphilologie (Klassisc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ologie)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31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2"/>
          <p:cNvSpPr/>
          <p:nvPr/>
        </p:nvSpPr>
        <p:spPr>
          <a:xfrm>
            <a:off x="4082400" y="628560"/>
            <a:ext cx="21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Lehr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2:21:56Z</dcterms:created>
  <dc:creator>zwiorek</dc:creator>
  <dc:description/>
  <dc:language>en-US</dc:language>
  <cp:lastModifiedBy>deuse</cp:lastModifiedBy>
  <dcterms:modified xsi:type="dcterms:W3CDTF">2013-08-06T15:59:41Z</dcterms:modified>
  <cp:revision>493</cp:revision>
  <dc:subject/>
  <dc:title>Folie 1</dc:title>
</cp:coreProperties>
</file>