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9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6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4076280" y="5948280"/>
            <a:ext cx="301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lstudienplätz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182160" y="3022560"/>
            <a:ext cx="119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5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49.png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3.png"/><Relationship Id="rId1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4.png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59.png"/><Relationship Id="rId1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60.png"/><Relationship Id="rId1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05_AR_NRW_LFB_VSP_Historie_Grafik.ppt" TargetMode="External"/><Relationship Id="rId2" Type="http://schemas.openxmlformats.org/officeDocument/2006/relationships/image" Target="../media/image3.wmf"/><Relationship Id="rId3" Type="http://schemas.openxmlformats.org/officeDocument/2006/relationships/hyperlink" Target="file:///01_AR_NRW_FG_Ueberblick.ppt" TargetMode="External"/><Relationship Id="rId4" Type="http://schemas.openxmlformats.org/officeDocument/2006/relationships/image" Target="../media/image2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63.png"/><Relationship Id="rId1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3_AR_NRW_LFB_FE_FH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5_AR_NRW_LFB_VSP_Historie_Grafik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7_AR_NRW_LFB_LE.ppt" TargetMode="External"/><Relationship Id="rId6" Type="http://schemas.openxmlformats.org/officeDocument/2006/relationships/image" Target="../media/image4.wmf"/><Relationship Id="rId7" Type="http://schemas.openxmlformats.org/officeDocument/2006/relationships/hyperlink" Target="file:///06_AR_NRW_LFB_VSP_Historie_Tabelle.ppt" TargetMode="External"/><Relationship Id="rId8" Type="http://schemas.openxmlformats.org/officeDocument/2006/relationships/image" Target="../media/image5.wmf"/><Relationship Id="rId9" Type="http://schemas.openxmlformats.org/officeDocument/2006/relationships/hyperlink" Target="file:///10_AR_NRW_LFB_FE.ppt" TargetMode="External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Sprach- und Kul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r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78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80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Picture 68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68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69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Anglistik Amerikan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86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9"/>
          <p:cNvSpPr/>
          <p:nvPr/>
        </p:nvSpPr>
        <p:spPr>
          <a:xfrm>
            <a:off x="363672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90" name="Rectangle 687"/>
          <p:cNvSpPr/>
          <p:nvPr/>
        </p:nvSpPr>
        <p:spPr>
          <a:xfrm>
            <a:off x="184680" y="628560"/>
            <a:ext cx="287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listik, Amerikan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68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69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manis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9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64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65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lawistik Baltistik Finno-Ugrist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0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05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07" name="Rectangle 227"/>
          <p:cNvSpPr/>
          <p:nvPr/>
        </p:nvSpPr>
        <p:spPr>
          <a:xfrm>
            <a:off x="153000" y="352440"/>
            <a:ext cx="195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awistik, Baltistik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no-Ugristik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22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23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/ Außereurop. Sprach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12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14" name="Rectangle 9"/>
          <p:cNvSpPr/>
          <p:nvPr/>
        </p:nvSpPr>
        <p:spPr>
          <a:xfrm>
            <a:off x="381744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7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37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1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Rechts-, Wirtschafts-, Sozial-, Erziehungs-, Agrar- und Ernährungswissenschaften an Universität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2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24" name="Rectangle 10"/>
          <p:cNvSpPr/>
          <p:nvPr/>
        </p:nvSpPr>
        <p:spPr>
          <a:xfrm>
            <a:off x="381744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63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64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30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32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37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37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38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40" name="Rectangle 10"/>
          <p:cNvSpPr/>
          <p:nvPr/>
        </p:nvSpPr>
        <p:spPr>
          <a:xfrm>
            <a:off x="381744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69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69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46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48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57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58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nge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7" name="Picture 7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2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72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725"/>
          <p:cNvSpPr/>
          <p:nvPr/>
        </p:nvSpPr>
        <p:spPr>
          <a:xfrm>
            <a:off x="363672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28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9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5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2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3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6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10"/>
          <p:cNvSpPr/>
          <p:nvPr/>
        </p:nvSpPr>
        <p:spPr>
          <a:xfrm>
            <a:off x="363672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66" name="Rectangle 116"/>
          <p:cNvSpPr/>
          <p:nvPr/>
        </p:nvSpPr>
        <p:spPr>
          <a:xfrm>
            <a:off x="163800" y="352440"/>
            <a:ext cx="289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Picture 11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1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73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22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22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79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81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2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2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33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umanmediz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88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90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43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43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434"/>
          <p:cNvSpPr/>
          <p:nvPr/>
        </p:nvSpPr>
        <p:spPr>
          <a:xfrm>
            <a:off x="826920" y="1798560"/>
            <a:ext cx="792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Analyseraster 201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Mathematik und Nat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98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00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68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35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36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0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08" name="Rectangle 6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48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49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hysik Astronomie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1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16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18" name="Rectangle 676"/>
          <p:cNvSpPr/>
          <p:nvPr/>
        </p:nvSpPr>
        <p:spPr>
          <a:xfrm>
            <a:off x="157320" y="628560"/>
            <a:ext cx="242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, Astronomie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9" name="Picture 67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67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23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25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6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67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68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holische The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5" name="Picture 68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8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8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88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6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7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z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3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33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4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21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21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3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39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41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52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52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gra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4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10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Picture 1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43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43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ohne Geograph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5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5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33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33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Ingenieurwissenschaften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6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6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27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27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7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75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27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27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7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8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5" name="Picture 12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12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8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89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38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39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59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599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0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11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soph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3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9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9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0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0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42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43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1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43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44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248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Bergbau Hüttenwese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2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2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25" name="Rectangle 120"/>
          <p:cNvSpPr/>
          <p:nvPr/>
        </p:nvSpPr>
        <p:spPr>
          <a:xfrm>
            <a:off x="158040" y="628560"/>
            <a:ext cx="28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rgbau, Hüttenwes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6" name="Picture 12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12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11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2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32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Kunst, Musik, Gestaltung und Sport an Universitäten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4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4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45" name="Rectangle 634"/>
          <p:cNvSpPr/>
          <p:nvPr/>
        </p:nvSpPr>
        <p:spPr>
          <a:xfrm>
            <a:off x="138960" y="352440"/>
            <a:ext cx="215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63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63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11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12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dende Kun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geschicht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52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54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1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59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61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27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27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usik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6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69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71" name="Rectangle 420"/>
          <p:cNvSpPr/>
          <p:nvPr/>
        </p:nvSpPr>
        <p:spPr>
          <a:xfrm>
            <a:off x="148680" y="628560"/>
            <a:ext cx="228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usik, Musik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42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42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Film_u_Theater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76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78" name="Rectangle 9"/>
          <p:cNvSpPr/>
          <p:nvPr/>
        </p:nvSpPr>
        <p:spPr>
          <a:xfrm>
            <a:off x="381744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80" name="Rectangle 132"/>
          <p:cNvSpPr/>
          <p:nvPr/>
        </p:nvSpPr>
        <p:spPr>
          <a:xfrm>
            <a:off x="149040" y="352440"/>
            <a:ext cx="261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ater-, Film- 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rnsehwissenschaf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13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13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sychologie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9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9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ort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8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8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52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52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Ingenieur- und Wirtschaft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6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697" name="Rectangle 9"/>
          <p:cNvSpPr/>
          <p:nvPr/>
        </p:nvSpPr>
        <p:spPr>
          <a:xfrm>
            <a:off x="399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699" name="Picture 69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69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AgrarLebensmittel-Getränketechnologie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0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05" name="Rectangle 9"/>
          <p:cNvSpPr/>
          <p:nvPr/>
        </p:nvSpPr>
        <p:spPr>
          <a:xfrm>
            <a:off x="363672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07" name="Rectangle 117"/>
          <p:cNvSpPr/>
          <p:nvPr/>
        </p:nvSpPr>
        <p:spPr>
          <a:xfrm>
            <a:off x="171720" y="352440"/>
            <a:ext cx="301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grarwiss., Lebensmittel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. Getränketechnologie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8" name="Picture 11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2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nährungs- u. Haushal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12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14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237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24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2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22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16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17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ktur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28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30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47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47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umplan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36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38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12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12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uingenieur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46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37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37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messungs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52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54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12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12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5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chichts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9" name="Picture 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4"/>
          <p:cNvSpPr/>
          <p:nvPr/>
        </p:nvSpPr>
        <p:spPr>
          <a:xfrm>
            <a:off x="381744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9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9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642320" y="1303200"/>
            <a:ext cx="7446240" cy="4505040"/>
            <a:chOff x="1642320" y="1303200"/>
            <a:chExt cx="7446240" cy="4505040"/>
          </a:xfrm>
        </p:grpSpPr>
        <p:grpSp>
          <p:nvGrpSpPr>
            <p:cNvPr id="86" name=""/>
            <p:cNvGrpSpPr/>
            <p:nvPr/>
          </p:nvGrpSpPr>
          <p:grpSpPr>
            <a:xfrm>
              <a:off x="1935360" y="1384200"/>
              <a:ext cx="6954840" cy="4187520"/>
              <a:chOff x="1935360" y="1384200"/>
              <a:chExt cx="6954840" cy="418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978200" y="1384200"/>
                <a:ext cx="6912000" cy="41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78200" y="515304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78200" y="477684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78200" y="439884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78200" y="402264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78200" y="36450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78200" y="32688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78200" y="28926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78200" y="25146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78200" y="21384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78200" y="17622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78200" y="1384200"/>
                <a:ext cx="6912000" cy="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3056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8148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3420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8512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3748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890200" y="1384200"/>
                <a:ext cx="0" cy="4145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78200" y="1384200"/>
                <a:ext cx="6912000" cy="41450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78200" y="1384200"/>
                <a:ext cx="0" cy="414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35360" y="552924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35360" y="515304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5360" y="477684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35360" y="439884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35360" y="402264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35360" y="36450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35360" y="32688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35360" y="28926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35360" y="25146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35360" y="21384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35360" y="17622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35360" y="1384200"/>
                <a:ext cx="4284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5529240"/>
                <a:ext cx="691200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97820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3056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28148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43420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58512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773748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8890200" y="5528880"/>
                <a:ext cx="0" cy="42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90880" y="2900520"/>
                <a:ext cx="376200" cy="3762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92680" y="290196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94120" y="2903400"/>
                <a:ext cx="36684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95920" y="2905200"/>
                <a:ext cx="36324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97360" y="2906640"/>
                <a:ext cx="358920" cy="3589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97360" y="2906640"/>
                <a:ext cx="357120" cy="35712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98800" y="290844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00600" y="2909880"/>
                <a:ext cx="347400" cy="34776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02040" y="291132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03840" y="2913120"/>
                <a:ext cx="339480" cy="33984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03840" y="2914560"/>
                <a:ext cx="33804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05280" y="291456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06720" y="2916360"/>
                <a:ext cx="328680" cy="32832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08520" y="291780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09960" y="2919240"/>
                <a:ext cx="32076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09960" y="2921040"/>
                <a:ext cx="3193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11760" y="2921040"/>
                <a:ext cx="31428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13200" y="292248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14640" y="2924280"/>
                <a:ext cx="30672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16440" y="2925720"/>
                <a:ext cx="30168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16440" y="2927520"/>
                <a:ext cx="29988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17880" y="2927520"/>
                <a:ext cx="29520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19680" y="292896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21120" y="2930400"/>
                <a:ext cx="287280" cy="28764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22560" y="2932200"/>
                <a:ext cx="2826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22560" y="2933640"/>
                <a:ext cx="27972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24360" y="2933640"/>
                <a:ext cx="27612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25800" y="293544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27600" y="293688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29040" y="293832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29040" y="2940120"/>
                <a:ext cx="260280" cy="25884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30840" y="2940120"/>
                <a:ext cx="25704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32280" y="294156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33720" y="2943360"/>
                <a:ext cx="249480" cy="24912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35520" y="294480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35520" y="2946240"/>
                <a:ext cx="241200" cy="23976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36960" y="2946240"/>
                <a:ext cx="23832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38760" y="294804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40200" y="2949480"/>
                <a:ext cx="230040" cy="2304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41640" y="2951280"/>
                <a:ext cx="22572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3440" y="2952720"/>
                <a:ext cx="220680" cy="2206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3440" y="2952720"/>
                <a:ext cx="218880" cy="2192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44880" y="2954160"/>
                <a:ext cx="21456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46680" y="2955960"/>
                <a:ext cx="21096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8120" y="2957400"/>
                <a:ext cx="206280" cy="20664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49560" y="2959200"/>
                <a:ext cx="201600" cy="2016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9560" y="2959200"/>
                <a:ext cx="200160" cy="19980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51360" y="2960640"/>
                <a:ext cx="195120" cy="19548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52800" y="2962440"/>
                <a:ext cx="190440" cy="19188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54600" y="296388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56040" y="2965320"/>
                <a:ext cx="182520" cy="1825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6040" y="2965320"/>
                <a:ext cx="18108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57840" y="2967120"/>
                <a:ext cx="17604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9280" y="2968560"/>
                <a:ext cx="171360" cy="1731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60720" y="2970360"/>
                <a:ext cx="168480" cy="16812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62520" y="2971800"/>
                <a:ext cx="163440" cy="1634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62520" y="2971800"/>
                <a:ext cx="162000" cy="1620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63960" y="2973240"/>
                <a:ext cx="15732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65760" y="2975040"/>
                <a:ext cx="15228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67200" y="2976480"/>
                <a:ext cx="14904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68640" y="2978280"/>
                <a:ext cx="144720" cy="1443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68640" y="2978280"/>
                <a:ext cx="142920" cy="1429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70440" y="2979720"/>
                <a:ext cx="137880" cy="13824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71880" y="2981160"/>
                <a:ext cx="133560" cy="1335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73680" y="2982960"/>
                <a:ext cx="12996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75120" y="2984400"/>
                <a:ext cx="125280" cy="12564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75120" y="2986200"/>
                <a:ext cx="123840" cy="1220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76560" y="2986200"/>
                <a:ext cx="119160" cy="11880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78360" y="2987640"/>
                <a:ext cx="114120" cy="11448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79800" y="2989440"/>
                <a:ext cx="111240" cy="11088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81600" y="2990880"/>
                <a:ext cx="106200" cy="1062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81600" y="2992320"/>
                <a:ext cx="10476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83040" y="299232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84480" y="2994120"/>
                <a:ext cx="95400" cy="950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86280" y="299556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87720" y="2997360"/>
                <a:ext cx="87480" cy="8712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87720" y="299880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89520" y="2998800"/>
                <a:ext cx="810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90960" y="300024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2760" y="3002040"/>
                <a:ext cx="7272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94200" y="3003480"/>
                <a:ext cx="6840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94200" y="3005280"/>
                <a:ext cx="65160" cy="6480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95640" y="3005280"/>
                <a:ext cx="6192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97440" y="3006720"/>
                <a:ext cx="56880" cy="5724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98880" y="3008160"/>
                <a:ext cx="5400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00680" y="3009960"/>
                <a:ext cx="4896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0680" y="3011400"/>
                <a:ext cx="4572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02120" y="3011400"/>
                <a:ext cx="428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03560" y="3013200"/>
                <a:ext cx="38160" cy="3780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05360" y="301464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06800" y="3016080"/>
                <a:ext cx="3024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108600" y="3017880"/>
                <a:ext cx="25200" cy="252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08600" y="3017880"/>
                <a:ext cx="2376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10040" y="301932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11480" y="3021120"/>
                <a:ext cx="1620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13280" y="302256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14720" y="3024360"/>
                <a:ext cx="6480" cy="61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14720" y="3024360"/>
                <a:ext cx="4680" cy="46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90880" y="2900520"/>
                <a:ext cx="376200" cy="3762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81520" y="3321000"/>
                <a:ext cx="376560" cy="37476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83320" y="3322800"/>
                <a:ext cx="371520" cy="37116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84760" y="3324240"/>
                <a:ext cx="36684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86560" y="332568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8000" y="3325680"/>
                <a:ext cx="358920" cy="3603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88000" y="3327480"/>
                <a:ext cx="35712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89800" y="3328920"/>
                <a:ext cx="35208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91240" y="3330720"/>
                <a:ext cx="347760" cy="3474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92680" y="333216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94480" y="3332160"/>
                <a:ext cx="339480" cy="3412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94480" y="3333600"/>
                <a:ext cx="33804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95920" y="333540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97720" y="3336840"/>
                <a:ext cx="32832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99160" y="333864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0600" y="3338640"/>
                <a:ext cx="320760" cy="3222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0600" y="3340080"/>
                <a:ext cx="3193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2400" y="3341520"/>
                <a:ext cx="314280" cy="3146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03840" y="334332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05640" y="3344760"/>
                <a:ext cx="3063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07080" y="3346560"/>
                <a:ext cx="30168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07080" y="334656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8520" y="3348000"/>
                <a:ext cx="29556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10320" y="3349800"/>
                <a:ext cx="290520" cy="29016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11760" y="335124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3560" y="3352680"/>
                <a:ext cx="2826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13560" y="335268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15000" y="3354480"/>
                <a:ext cx="27612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16440" y="3355920"/>
                <a:ext cx="27180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18240" y="3357720"/>
                <a:ext cx="268200" cy="2664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19680" y="335916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19680" y="3359160"/>
                <a:ext cx="26028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1480" y="3360600"/>
                <a:ext cx="257040" cy="2574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2920" y="336240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24720" y="3363840"/>
                <a:ext cx="249120" cy="2476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26160" y="336564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26160" y="3365640"/>
                <a:ext cx="2412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27600" y="3367080"/>
                <a:ext cx="238320" cy="23796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29400" y="3368520"/>
                <a:ext cx="233280" cy="2336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30840" y="3370320"/>
                <a:ext cx="230400" cy="2286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32640" y="3371760"/>
                <a:ext cx="22536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32640" y="3371760"/>
                <a:ext cx="222120" cy="2224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34080" y="3373560"/>
                <a:ext cx="21924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35520" y="3375000"/>
                <a:ext cx="214560" cy="2142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37320" y="3376440"/>
                <a:ext cx="210960" cy="20988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38760" y="3378240"/>
                <a:ext cx="20628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40560" y="3378240"/>
                <a:ext cx="201600" cy="20304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40560" y="3379680"/>
                <a:ext cx="199800" cy="2001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42000" y="3381480"/>
                <a:ext cx="19512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43440" y="3382920"/>
                <a:ext cx="19080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45240" y="338472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46680" y="3384720"/>
                <a:ext cx="182520" cy="18396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46680" y="3386160"/>
                <a:ext cx="18108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48480" y="3387600"/>
                <a:ext cx="17604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49920" y="3389400"/>
                <a:ext cx="17136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51360" y="3390840"/>
                <a:ext cx="16848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53160" y="3390840"/>
                <a:ext cx="163440" cy="1652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53160" y="3392640"/>
                <a:ext cx="16200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4600" y="3394080"/>
                <a:ext cx="15732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56400" y="3395520"/>
                <a:ext cx="152280" cy="15264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57840" y="3397320"/>
                <a:ext cx="14940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59640" y="3397320"/>
                <a:ext cx="144360" cy="1461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781520" y="3156120"/>
              <a:ext cx="2546640" cy="539640"/>
              <a:chOff x="4781520" y="3156120"/>
              <a:chExt cx="2546640" cy="539640"/>
            </a:xfrm>
          </p:grpSpPr>
          <p:sp>
            <p:nvSpPr>
              <p:cNvPr id="288" name=""/>
              <p:cNvSpPr/>
              <p:nvPr/>
            </p:nvSpPr>
            <p:spPr>
              <a:xfrm>
                <a:off x="4859640" y="3398760"/>
                <a:ext cx="142560" cy="14148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61080" y="3400560"/>
                <a:ext cx="13824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62520" y="3402000"/>
                <a:ext cx="133560" cy="1332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64320" y="3403440"/>
                <a:ext cx="129960" cy="13032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5760" y="3403440"/>
                <a:ext cx="125640" cy="1270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65760" y="3405240"/>
                <a:ext cx="123840" cy="1220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67560" y="3406680"/>
                <a:ext cx="11880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9000" y="3408480"/>
                <a:ext cx="11412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3409920"/>
                <a:ext cx="11124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72240" y="3409920"/>
                <a:ext cx="106200" cy="1080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72240" y="3411360"/>
                <a:ext cx="10476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73680" y="341316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75480" y="3414600"/>
                <a:ext cx="95040" cy="954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76920" y="3416400"/>
                <a:ext cx="92160" cy="9180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78360" y="3417840"/>
                <a:ext cx="8748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8360" y="341784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80160" y="3419640"/>
                <a:ext cx="81000" cy="8064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81600" y="342108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83400" y="3422520"/>
                <a:ext cx="730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84840" y="3424320"/>
                <a:ext cx="68400" cy="6804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84840" y="342432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86640" y="3425760"/>
                <a:ext cx="6156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88080" y="3427560"/>
                <a:ext cx="5724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89520" y="3429000"/>
                <a:ext cx="54000" cy="5256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91320" y="3430440"/>
                <a:ext cx="4896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91320" y="343044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92760" y="3432240"/>
                <a:ext cx="428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94560" y="3433680"/>
                <a:ext cx="3780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96000" y="3435480"/>
                <a:ext cx="34920" cy="331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97440" y="3436920"/>
                <a:ext cx="3024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97440" y="343692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99240" y="3438360"/>
                <a:ext cx="23760" cy="241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00680" y="344016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02480" y="3441600"/>
                <a:ext cx="15840" cy="1440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03920" y="344340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05360" y="3443400"/>
                <a:ext cx="648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05360" y="3444840"/>
                <a:ext cx="5040" cy="46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1520" y="3321000"/>
                <a:ext cx="376560" cy="3747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1960" y="3156120"/>
                <a:ext cx="376200" cy="3744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53400" y="315756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54840" y="3159000"/>
                <a:ext cx="36684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56640" y="316080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58080" y="3160800"/>
                <a:ext cx="358920" cy="3603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58080" y="3162240"/>
                <a:ext cx="35712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59880" y="316404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61320" y="3165480"/>
                <a:ext cx="347760" cy="34776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962760" y="316692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64560" y="3166920"/>
                <a:ext cx="339840" cy="3412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64560" y="3168720"/>
                <a:ext cx="33804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66000" y="317016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67800" y="3171960"/>
                <a:ext cx="328320" cy="32832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69240" y="317340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70680" y="3173400"/>
                <a:ext cx="320760" cy="3222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70680" y="3174840"/>
                <a:ext cx="3193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72480" y="3176640"/>
                <a:ext cx="31428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73920" y="317808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75720" y="3179880"/>
                <a:ext cx="306360" cy="3045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77160" y="3179880"/>
                <a:ext cx="301680" cy="30312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78960" y="318132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978960" y="3182760"/>
                <a:ext cx="295200" cy="29556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80400" y="318456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81840" y="3186000"/>
                <a:ext cx="287280" cy="28584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83640" y="3186000"/>
                <a:ext cx="282600" cy="2844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85080" y="318780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985080" y="3189240"/>
                <a:ext cx="27612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6880" y="319104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88320" y="3192480"/>
                <a:ext cx="268200" cy="26676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989760" y="3192480"/>
                <a:ext cx="263520" cy="26496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91560" y="3193920"/>
                <a:ext cx="258840" cy="26064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991560" y="3195720"/>
                <a:ext cx="25704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93000" y="319716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94800" y="3198960"/>
                <a:ext cx="249120" cy="2476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96240" y="3198960"/>
                <a:ext cx="244440" cy="24588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97680" y="3200400"/>
                <a:ext cx="23976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97680" y="3201840"/>
                <a:ext cx="23832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99480" y="320364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00920" y="3205080"/>
                <a:ext cx="230400" cy="2286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02720" y="3206880"/>
                <a:ext cx="22536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04160" y="3206880"/>
                <a:ext cx="220680" cy="22212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04160" y="3208320"/>
                <a:ext cx="219240" cy="2192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05600" y="3209760"/>
                <a:ext cx="21456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07400" y="3211560"/>
                <a:ext cx="210960" cy="20952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8840" y="3213000"/>
                <a:ext cx="206640" cy="20664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10640" y="3213000"/>
                <a:ext cx="201600" cy="2034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10640" y="3214800"/>
                <a:ext cx="199800" cy="1983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12080" y="3216240"/>
                <a:ext cx="19548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13880" y="3218040"/>
                <a:ext cx="19188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015320" y="321948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16760" y="3219480"/>
                <a:ext cx="182520" cy="18396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16760" y="3220920"/>
                <a:ext cx="181080" cy="17964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18560" y="3222720"/>
                <a:ext cx="17604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20000" y="3224160"/>
                <a:ext cx="17316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021800" y="3225960"/>
                <a:ext cx="168120" cy="16812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23240" y="3225960"/>
                <a:ext cx="163440" cy="16488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023240" y="3227400"/>
                <a:ext cx="16200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24680" y="3228840"/>
                <a:ext cx="15732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26480" y="3230640"/>
                <a:ext cx="15228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027920" y="3232080"/>
                <a:ext cx="14940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29720" y="3232080"/>
                <a:ext cx="144360" cy="1461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29720" y="3233880"/>
                <a:ext cx="142920" cy="1411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31160" y="3235320"/>
                <a:ext cx="138240" cy="13824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32600" y="3236760"/>
                <a:ext cx="133560" cy="1335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34400" y="3238560"/>
                <a:ext cx="12996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5840" y="3238560"/>
                <a:ext cx="125640" cy="1270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35840" y="3240000"/>
                <a:ext cx="12384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37640" y="3241800"/>
                <a:ext cx="118800" cy="11880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39080" y="3243240"/>
                <a:ext cx="114480" cy="11448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40520" y="3244680"/>
                <a:ext cx="11124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42320" y="3244680"/>
                <a:ext cx="106200" cy="1080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42320" y="3246480"/>
                <a:ext cx="10476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43760" y="324792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45560" y="3249720"/>
                <a:ext cx="95040" cy="950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047000" y="3251160"/>
                <a:ext cx="92160" cy="903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8800" y="3251160"/>
                <a:ext cx="87120" cy="8892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50240" y="3252960"/>
                <a:ext cx="84240" cy="8388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050240" y="3254400"/>
                <a:ext cx="810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51680" y="325584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53480" y="3257640"/>
                <a:ext cx="73080" cy="712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54920" y="3257640"/>
                <a:ext cx="68400" cy="6984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056720" y="3259080"/>
                <a:ext cx="6480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56720" y="3260880"/>
                <a:ext cx="6192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058160" y="3262320"/>
                <a:ext cx="57240" cy="5724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059600" y="3263760"/>
                <a:ext cx="54000" cy="5256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61400" y="3263760"/>
                <a:ext cx="49320" cy="511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062840" y="3265560"/>
                <a:ext cx="4464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62840" y="3267000"/>
                <a:ext cx="428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64640" y="3268800"/>
                <a:ext cx="37800" cy="3780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66080" y="3270240"/>
                <a:ext cx="34920" cy="3348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67520" y="3270240"/>
                <a:ext cx="30240" cy="3168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69320" y="3271680"/>
                <a:ext cx="252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69320" y="3273480"/>
                <a:ext cx="2376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70760" y="327492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72560" y="3276720"/>
                <a:ext cx="15840" cy="140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74000" y="327816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75800" y="3278160"/>
                <a:ext cx="612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75800" y="3279600"/>
                <a:ext cx="4680" cy="50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51960" y="3156120"/>
                <a:ext cx="376200" cy="3744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772240" y="3178080"/>
                <a:ext cx="374760" cy="37476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72240" y="317988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74040" y="3181320"/>
                <a:ext cx="36828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75480" y="318276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76920" y="3182760"/>
                <a:ext cx="358920" cy="3607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78720" y="3184560"/>
                <a:ext cx="35568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78720" y="318600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80160" y="3187800"/>
                <a:ext cx="349200" cy="3474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81960" y="3189240"/>
                <a:ext cx="34416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83400" y="3189240"/>
                <a:ext cx="339840" cy="3412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784840" y="3191040"/>
                <a:ext cx="336600" cy="33624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84840" y="319248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86640" y="3193920"/>
                <a:ext cx="33012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88080" y="319572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89880" y="3195720"/>
                <a:ext cx="320400" cy="3222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91320" y="3197160"/>
                <a:ext cx="3175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91320" y="3198960"/>
                <a:ext cx="31428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92760" y="3200400"/>
                <a:ext cx="3114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94560" y="3201840"/>
                <a:ext cx="3063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96000" y="3203640"/>
                <a:ext cx="30168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97800" y="320364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7800" y="3205080"/>
                <a:ext cx="29520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99240" y="3206880"/>
                <a:ext cx="29196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01040" y="320832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02480" y="3209760"/>
                <a:ext cx="2826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03920" y="3209760"/>
                <a:ext cx="279360" cy="27972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05720" y="3211560"/>
                <a:ext cx="27468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5720" y="321300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07160" y="3214800"/>
                <a:ext cx="268200" cy="26676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08960" y="321624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10400" y="3216240"/>
                <a:ext cx="26028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11840" y="3218040"/>
                <a:ext cx="25560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11840" y="3219480"/>
                <a:ext cx="25272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3640" y="3220920"/>
                <a:ext cx="249120" cy="2476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15080" y="322272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6880" y="3222720"/>
                <a:ext cx="2412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18320" y="3224160"/>
                <a:ext cx="23652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18320" y="322596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19760" y="3227400"/>
                <a:ext cx="230400" cy="2286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21560" y="3228840"/>
                <a:ext cx="225360" cy="22572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23000" y="3228840"/>
                <a:ext cx="222480" cy="2224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24800" y="3230640"/>
                <a:ext cx="21744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24800" y="3232080"/>
                <a:ext cx="21420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26240" y="3233880"/>
                <a:ext cx="211320" cy="20952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27680" y="3235320"/>
                <a:ext cx="20664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29480" y="3235320"/>
                <a:ext cx="203040" cy="20304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30920" y="3236760"/>
                <a:ext cx="198720" cy="2001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30920" y="3238560"/>
                <a:ext cx="19548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32720" y="3240000"/>
                <a:ext cx="19188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34160" y="324180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35960" y="3241800"/>
                <a:ext cx="183960" cy="18396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37400" y="3243240"/>
                <a:ext cx="17928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37400" y="3244680"/>
                <a:ext cx="17604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38840" y="3246480"/>
                <a:ext cx="17316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40640" y="3247920"/>
                <a:ext cx="16812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42080" y="3247920"/>
                <a:ext cx="163440" cy="1652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43880" y="3249720"/>
                <a:ext cx="16020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43880" y="3251160"/>
                <a:ext cx="15696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45320" y="3252960"/>
                <a:ext cx="15408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46760" y="3254400"/>
                <a:ext cx="14940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48560" y="3254400"/>
                <a:ext cx="144360" cy="1461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50000" y="3255840"/>
                <a:ext cx="141480" cy="14148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50000" y="3257640"/>
                <a:ext cx="13824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552760" y="2468520"/>
              <a:ext cx="3594240" cy="3144960"/>
              <a:chOff x="2552760" y="2468520"/>
              <a:chExt cx="3594240" cy="3144960"/>
            </a:xfrm>
          </p:grpSpPr>
          <p:sp>
            <p:nvSpPr>
              <p:cNvPr id="489" name=""/>
              <p:cNvSpPr/>
              <p:nvPr/>
            </p:nvSpPr>
            <p:spPr>
              <a:xfrm>
                <a:off x="5851800" y="3259080"/>
                <a:ext cx="134640" cy="1335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53240" y="3260880"/>
                <a:ext cx="13032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54680" y="3260880"/>
                <a:ext cx="125640" cy="12672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6480" y="3262320"/>
                <a:ext cx="12204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6480" y="3263760"/>
                <a:ext cx="11916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57920" y="3265560"/>
                <a:ext cx="11592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59720" y="3267000"/>
                <a:ext cx="11088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1160" y="3267000"/>
                <a:ext cx="106560" cy="1080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2600" y="3268800"/>
                <a:ext cx="103320" cy="10296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2600" y="327024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4400" y="3271680"/>
                <a:ext cx="96840" cy="954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5840" y="327348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7640" y="3274920"/>
                <a:ext cx="8712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9080" y="327492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9080" y="3276720"/>
                <a:ext cx="810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70880" y="3278160"/>
                <a:ext cx="7776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72320" y="3279600"/>
                <a:ext cx="730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73760" y="3281400"/>
                <a:ext cx="6840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75560" y="328140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77000" y="3282840"/>
                <a:ext cx="6048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77000" y="3284640"/>
                <a:ext cx="5724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8800" y="3286080"/>
                <a:ext cx="54000" cy="5256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80240" y="3287880"/>
                <a:ext cx="49320" cy="4896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81680" y="3287880"/>
                <a:ext cx="46080" cy="4572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83480" y="3289320"/>
                <a:ext cx="410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83480" y="3290760"/>
                <a:ext cx="3816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84920" y="3292560"/>
                <a:ext cx="34920" cy="331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720" y="3294000"/>
                <a:ext cx="2988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88160" y="329400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89600" y="3295800"/>
                <a:ext cx="2232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89600" y="329724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91400" y="3298680"/>
                <a:ext cx="15840" cy="1440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92840" y="330048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94640" y="3300480"/>
                <a:ext cx="792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96080" y="3301920"/>
                <a:ext cx="3240" cy="46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2240" y="3178080"/>
                <a:ext cx="374760" cy="3747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52760" y="5238720"/>
                <a:ext cx="376200" cy="37476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54560" y="5240160"/>
                <a:ext cx="37116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56000" y="5241960"/>
                <a:ext cx="36684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57440" y="524196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59240" y="5243400"/>
                <a:ext cx="358560" cy="3603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59240" y="5245200"/>
                <a:ext cx="35712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60680" y="524664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62480" y="5248440"/>
                <a:ext cx="347400" cy="3474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63920" y="5248440"/>
                <a:ext cx="344520" cy="34416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65360" y="5249880"/>
                <a:ext cx="339840" cy="3412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65360" y="5251320"/>
                <a:ext cx="33840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67160" y="525312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68600" y="5254560"/>
                <a:ext cx="32868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70400" y="525456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71840" y="5256360"/>
                <a:ext cx="320760" cy="3222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71840" y="5257800"/>
                <a:ext cx="3175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73640" y="5259240"/>
                <a:ext cx="314280" cy="3128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75080" y="526104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76520" y="5261040"/>
                <a:ext cx="3063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78320" y="5262480"/>
                <a:ext cx="301680" cy="30312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78320" y="526428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79760" y="5265720"/>
                <a:ext cx="295200" cy="29376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81560" y="526716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83000" y="5267160"/>
                <a:ext cx="287280" cy="28764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84440" y="5268960"/>
                <a:ext cx="282600" cy="28404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84440" y="5270400"/>
                <a:ext cx="27972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86240" y="5272200"/>
                <a:ext cx="276120" cy="27468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87680" y="527364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89480" y="527364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90920" y="5275440"/>
                <a:ext cx="263520" cy="26496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90920" y="5276880"/>
                <a:ext cx="26028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2360" y="5278320"/>
                <a:ext cx="257400" cy="2556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94160" y="528012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95600" y="5280120"/>
                <a:ext cx="249480" cy="24912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97400" y="5281560"/>
                <a:ext cx="244440" cy="2462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97400" y="5283360"/>
                <a:ext cx="2412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98840" y="5284800"/>
                <a:ext cx="238320" cy="2365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600640" y="5286240"/>
                <a:ext cx="233280" cy="2336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02080" y="5288040"/>
                <a:ext cx="230040" cy="2286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03520" y="5288040"/>
                <a:ext cx="225720" cy="22680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603520" y="5289480"/>
                <a:ext cx="222480" cy="2224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05320" y="5291280"/>
                <a:ext cx="218880" cy="2174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06760" y="5292720"/>
                <a:ext cx="214200" cy="2142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08560" y="5294160"/>
                <a:ext cx="209520" cy="20988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10000" y="5294160"/>
                <a:ext cx="206280" cy="2080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610000" y="5295960"/>
                <a:ext cx="203040" cy="20304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11440" y="5297400"/>
                <a:ext cx="200160" cy="1983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13240" y="5299200"/>
                <a:ext cx="19512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4680" y="5300640"/>
                <a:ext cx="19044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16480" y="530064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616480" y="5302080"/>
                <a:ext cx="183960" cy="1843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17920" y="5303880"/>
                <a:ext cx="181080" cy="1792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19360" y="5305320"/>
                <a:ext cx="17640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21160" y="5307120"/>
                <a:ext cx="17136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22600" y="5307120"/>
                <a:ext cx="168480" cy="16812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24400" y="5308560"/>
                <a:ext cx="163440" cy="1652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24400" y="5310360"/>
                <a:ext cx="16164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625840" y="5311800"/>
                <a:ext cx="157320" cy="15696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27280" y="5313240"/>
                <a:ext cx="152640" cy="15264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29080" y="5313240"/>
                <a:ext cx="14904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630520" y="5315040"/>
                <a:ext cx="144720" cy="14580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30520" y="5316480"/>
                <a:ext cx="142920" cy="14148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32320" y="5318280"/>
                <a:ext cx="13788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33760" y="5319720"/>
                <a:ext cx="133560" cy="1332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35560" y="5319720"/>
                <a:ext cx="129960" cy="13032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37000" y="5321160"/>
                <a:ext cx="125280" cy="1270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37000" y="5322960"/>
                <a:ext cx="122040" cy="1220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38440" y="5324400"/>
                <a:ext cx="11916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40240" y="5326200"/>
                <a:ext cx="11412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41680" y="5326200"/>
                <a:ext cx="111240" cy="11088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43480" y="5327640"/>
                <a:ext cx="106200" cy="1080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43480" y="5329080"/>
                <a:ext cx="10296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44920" y="533088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46360" y="5332320"/>
                <a:ext cx="95400" cy="954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48160" y="533232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49600" y="5334120"/>
                <a:ext cx="87480" cy="8892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49600" y="533556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51400" y="5337000"/>
                <a:ext cx="81000" cy="7956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52840" y="533880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54280" y="5338800"/>
                <a:ext cx="730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56080" y="5340240"/>
                <a:ext cx="68040" cy="6984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56080" y="534204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57520" y="5343480"/>
                <a:ext cx="61920" cy="6048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59320" y="5345280"/>
                <a:ext cx="5688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60760" y="5345280"/>
                <a:ext cx="54000" cy="5364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662200" y="5346720"/>
                <a:ext cx="49320" cy="5076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62200" y="534816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64000" y="5349960"/>
                <a:ext cx="42840" cy="410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65440" y="5351400"/>
                <a:ext cx="3816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67240" y="535140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68680" y="5353200"/>
                <a:ext cx="30240" cy="3168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8680" y="535464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70480" y="5356080"/>
                <a:ext cx="23760" cy="223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71920" y="535788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73360" y="5359320"/>
                <a:ext cx="14400" cy="1440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75160" y="5359320"/>
                <a:ext cx="11160" cy="129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75160" y="5361120"/>
                <a:ext cx="792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76600" y="5362560"/>
                <a:ext cx="4680" cy="32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52760" y="5238720"/>
                <a:ext cx="376200" cy="3747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05480" y="2468520"/>
                <a:ext cx="374760" cy="37476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06920" y="246852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08720" y="2470320"/>
                <a:ext cx="366480" cy="36828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08720" y="2471760"/>
                <a:ext cx="36504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10160" y="2473200"/>
                <a:ext cx="360360" cy="3589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611960" y="2475000"/>
                <a:ext cx="35532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613400" y="247500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14840" y="2476440"/>
                <a:ext cx="347760" cy="3492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14840" y="2478240"/>
                <a:ext cx="344520" cy="34416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16640" y="2479680"/>
                <a:ext cx="341280" cy="33984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18080" y="2481120"/>
                <a:ext cx="33660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19880" y="2482920"/>
                <a:ext cx="333360" cy="3315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21320" y="2482920"/>
                <a:ext cx="328680" cy="33012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621320" y="248436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22760" y="2486160"/>
                <a:ext cx="322560" cy="3204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624560" y="2487600"/>
                <a:ext cx="3175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26000" y="2489040"/>
                <a:ext cx="314280" cy="3128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27800" y="2489040"/>
                <a:ext cx="309600" cy="3114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29240" y="2490840"/>
                <a:ext cx="30492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29240" y="2492280"/>
                <a:ext cx="30312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31040" y="249408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32480" y="2495520"/>
                <a:ext cx="295200" cy="29376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33920" y="2495520"/>
                <a:ext cx="290520" cy="29196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35720" y="2496960"/>
                <a:ext cx="285840" cy="28764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5720" y="2498760"/>
                <a:ext cx="28404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7160" y="250020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38960" y="2502000"/>
                <a:ext cx="276120" cy="27468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40400" y="2502000"/>
                <a:ext cx="271440" cy="27288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41840" y="2503440"/>
                <a:ext cx="26676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41840" y="2505240"/>
                <a:ext cx="2653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43640" y="2506680"/>
                <a:ext cx="26028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5080" y="2508120"/>
                <a:ext cx="255600" cy="2556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46880" y="2508120"/>
                <a:ext cx="252360" cy="25272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48320" y="2509920"/>
                <a:ext cx="247680" cy="24912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48320" y="2511360"/>
                <a:ext cx="2462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49760" y="2513160"/>
                <a:ext cx="24156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51560" y="2514600"/>
                <a:ext cx="236520" cy="2365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53000" y="2514600"/>
                <a:ext cx="23364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54800" y="2516040"/>
                <a:ext cx="228600" cy="2304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54800" y="2517840"/>
                <a:ext cx="22680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56240" y="2519280"/>
                <a:ext cx="222120" cy="2224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58040" y="2521080"/>
                <a:ext cx="217440" cy="2174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59480" y="2521080"/>
                <a:ext cx="214200" cy="2142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60920" y="2522520"/>
                <a:ext cx="209520" cy="21132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60920" y="2523960"/>
                <a:ext cx="208080" cy="20664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62720" y="2525760"/>
                <a:ext cx="203040" cy="20304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64160" y="2527200"/>
                <a:ext cx="198360" cy="1983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65960" y="2527200"/>
                <a:ext cx="195120" cy="19548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67400" y="2529000"/>
                <a:ext cx="190440" cy="19188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667400" y="2530440"/>
                <a:ext cx="1890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68840" y="2532240"/>
                <a:ext cx="184320" cy="18396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70640" y="2533680"/>
                <a:ext cx="179280" cy="1792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72080" y="2533680"/>
                <a:ext cx="17640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73880" y="2535120"/>
                <a:ext cx="171360" cy="1731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73880" y="2536920"/>
                <a:ext cx="169560" cy="16812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75320" y="2538360"/>
                <a:ext cx="165240" cy="1652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76760" y="2540160"/>
                <a:ext cx="16056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78560" y="2540160"/>
                <a:ext cx="156960" cy="15696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80000" y="2541600"/>
                <a:ext cx="152640" cy="1540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680000" y="2543040"/>
                <a:ext cx="14940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681800" y="2544840"/>
                <a:ext cx="145800" cy="1443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83240" y="2546280"/>
                <a:ext cx="141480" cy="14148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84680" y="2546280"/>
                <a:ext cx="138240" cy="13824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86480" y="2548080"/>
                <a:ext cx="133200" cy="13464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86480" y="2549520"/>
                <a:ext cx="129960" cy="13032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08680" y="1787400"/>
              <a:ext cx="3946320" cy="1055880"/>
              <a:chOff x="4108680" y="1787400"/>
              <a:chExt cx="3946320" cy="1055880"/>
            </a:xfrm>
          </p:grpSpPr>
          <p:sp>
            <p:nvSpPr>
              <p:cNvPr id="690" name=""/>
              <p:cNvSpPr/>
              <p:nvPr/>
            </p:nvSpPr>
            <p:spPr>
              <a:xfrm>
                <a:off x="4687920" y="2550960"/>
                <a:ext cx="127080" cy="12564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89720" y="2552760"/>
                <a:ext cx="122040" cy="1220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91160" y="2554200"/>
                <a:ext cx="119160" cy="11772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92960" y="2554200"/>
                <a:ext cx="114120" cy="1159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92960" y="2556000"/>
                <a:ext cx="110880" cy="11088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94400" y="2557440"/>
                <a:ext cx="108000" cy="10656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95840" y="2558880"/>
                <a:ext cx="10332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97640" y="2560680"/>
                <a:ext cx="100080" cy="982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99080" y="2560680"/>
                <a:ext cx="95400" cy="968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700880" y="2562120"/>
                <a:ext cx="903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700880" y="2563920"/>
                <a:ext cx="88920" cy="8712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02320" y="256536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03760" y="2567160"/>
                <a:ext cx="81000" cy="792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05560" y="2567160"/>
                <a:ext cx="75960" cy="7776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07000" y="2568600"/>
                <a:ext cx="7164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707000" y="2570040"/>
                <a:ext cx="6984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708800" y="2571840"/>
                <a:ext cx="6480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710240" y="2573280"/>
                <a:ext cx="61920" cy="6048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711680" y="2573280"/>
                <a:ext cx="57240" cy="586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13480" y="2575080"/>
                <a:ext cx="5220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13480" y="2576520"/>
                <a:ext cx="5076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714920" y="257796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16720" y="2579760"/>
                <a:ext cx="41040" cy="410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718160" y="2579760"/>
                <a:ext cx="3816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19600" y="2581200"/>
                <a:ext cx="3348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719600" y="2583000"/>
                <a:ext cx="32040" cy="2988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721400" y="258444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22840" y="2585880"/>
                <a:ext cx="22320" cy="223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724640" y="258588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726080" y="2587680"/>
                <a:ext cx="1440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726080" y="2589120"/>
                <a:ext cx="1260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727880" y="2590920"/>
                <a:ext cx="792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729320" y="2592360"/>
                <a:ext cx="3240" cy="32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605480" y="2468520"/>
                <a:ext cx="374760" cy="37476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08680" y="1787400"/>
                <a:ext cx="376200" cy="3762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110120" y="178920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11920" y="1790640"/>
                <a:ext cx="36648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13360" y="1792440"/>
                <a:ext cx="363600" cy="36324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4800" y="1793880"/>
                <a:ext cx="358920" cy="3589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14800" y="1793880"/>
                <a:ext cx="357480" cy="35712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16600" y="179532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18040" y="1797120"/>
                <a:ext cx="347760" cy="34776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19840" y="179856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21280" y="1800360"/>
                <a:ext cx="339840" cy="3394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121280" y="1800360"/>
                <a:ext cx="338040" cy="33804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22720" y="180180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24520" y="1803240"/>
                <a:ext cx="32868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25960" y="180504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127760" y="1806480"/>
                <a:ext cx="32040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127760" y="1806480"/>
                <a:ext cx="318960" cy="3193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129200" y="1808280"/>
                <a:ext cx="31428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30640" y="180972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32440" y="1811160"/>
                <a:ext cx="306360" cy="30672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33880" y="1812960"/>
                <a:ext cx="30168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33880" y="1812960"/>
                <a:ext cx="3002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35680" y="1814400"/>
                <a:ext cx="295200" cy="29556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37120" y="181620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38920" y="181764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40360" y="1819440"/>
                <a:ext cx="282600" cy="28224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140360" y="1819440"/>
                <a:ext cx="28080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41800" y="1820880"/>
                <a:ext cx="27648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143600" y="182232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45040" y="182412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146840" y="182556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48280" y="1825560"/>
                <a:ext cx="25884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148280" y="1827360"/>
                <a:ext cx="25704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49720" y="1828800"/>
                <a:ext cx="25272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51520" y="1830240"/>
                <a:ext cx="249120" cy="2494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52960" y="183204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54760" y="1832040"/>
                <a:ext cx="2394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54760" y="1833480"/>
                <a:ext cx="23796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56200" y="183528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157640" y="1836720"/>
                <a:ext cx="23040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59440" y="1838160"/>
                <a:ext cx="225360" cy="22572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60880" y="1839960"/>
                <a:ext cx="220680" cy="2206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60880" y="1839960"/>
                <a:ext cx="21924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62680" y="1841400"/>
                <a:ext cx="21420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64120" y="1843200"/>
                <a:ext cx="21132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165560" y="1844640"/>
                <a:ext cx="20664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67360" y="1846440"/>
                <a:ext cx="201600" cy="2016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67360" y="1846440"/>
                <a:ext cx="200160" cy="19980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68800" y="1847880"/>
                <a:ext cx="19548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70600" y="1849320"/>
                <a:ext cx="19188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172040" y="185112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73840" y="1852560"/>
                <a:ext cx="182520" cy="1825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173840" y="1852560"/>
                <a:ext cx="18072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75280" y="1854360"/>
                <a:ext cx="17604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76720" y="1855800"/>
                <a:ext cx="17172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78520" y="1857240"/>
                <a:ext cx="16812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179960" y="1859040"/>
                <a:ext cx="163440" cy="1634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179960" y="1859040"/>
                <a:ext cx="162000" cy="1620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181760" y="1860480"/>
                <a:ext cx="15696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83200" y="1862280"/>
                <a:ext cx="15228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84640" y="1863720"/>
                <a:ext cx="14940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186440" y="1865160"/>
                <a:ext cx="144360" cy="14472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186440" y="1865160"/>
                <a:ext cx="142920" cy="1429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187880" y="1866960"/>
                <a:ext cx="13824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189680" y="1868400"/>
                <a:ext cx="133200" cy="1335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91120" y="1870200"/>
                <a:ext cx="13032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192560" y="1871640"/>
                <a:ext cx="125640" cy="1252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192560" y="1871640"/>
                <a:ext cx="123840" cy="1238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94360" y="1873080"/>
                <a:ext cx="11916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195800" y="1874880"/>
                <a:ext cx="11448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197600" y="1876320"/>
                <a:ext cx="11088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99040" y="1878120"/>
                <a:ext cx="106560" cy="1062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199040" y="1878120"/>
                <a:ext cx="104760" cy="10476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200840" y="1879560"/>
                <a:ext cx="9972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202280" y="1881360"/>
                <a:ext cx="95040" cy="950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203720" y="188280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205520" y="1884240"/>
                <a:ext cx="8712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205520" y="1884240"/>
                <a:ext cx="8568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206960" y="1886040"/>
                <a:ext cx="810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208760" y="1887480"/>
                <a:ext cx="7596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210200" y="1889280"/>
                <a:ext cx="73080" cy="7272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211640" y="1890720"/>
                <a:ext cx="6840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211640" y="189072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213440" y="1892160"/>
                <a:ext cx="6192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14880" y="1893960"/>
                <a:ext cx="57240" cy="5724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216680" y="1895400"/>
                <a:ext cx="5400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218120" y="1897200"/>
                <a:ext cx="49320" cy="4896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219560" y="1897200"/>
                <a:ext cx="4464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219560" y="1898640"/>
                <a:ext cx="428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221360" y="1900080"/>
                <a:ext cx="3816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222800" y="190188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224600" y="1903320"/>
                <a:ext cx="2988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226040" y="1903320"/>
                <a:ext cx="2556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26040" y="1905120"/>
                <a:ext cx="2376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227480" y="190656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229280" y="1908000"/>
                <a:ext cx="15840" cy="1620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230720" y="190980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232520" y="1911240"/>
                <a:ext cx="6120" cy="648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32520" y="1911240"/>
                <a:ext cx="4680" cy="50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08680" y="1787400"/>
                <a:ext cx="376200" cy="3762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80600" y="2203560"/>
                <a:ext cx="374400" cy="3744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80600" y="2203560"/>
                <a:ext cx="37116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82040" y="2205000"/>
                <a:ext cx="368280" cy="36828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83480" y="2206800"/>
                <a:ext cx="363600" cy="36324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85280" y="2208240"/>
                <a:ext cx="358560" cy="3589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86720" y="2209680"/>
                <a:ext cx="35568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86720" y="220968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88520" y="2211480"/>
                <a:ext cx="349200" cy="3492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89960" y="221292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91400" y="2214720"/>
                <a:ext cx="339840" cy="3394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93200" y="2216160"/>
                <a:ext cx="33660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93200" y="221616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94640" y="2217600"/>
                <a:ext cx="33048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96440" y="221940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97880" y="2220840"/>
                <a:ext cx="32076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99680" y="2222640"/>
                <a:ext cx="31716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99680" y="2222640"/>
                <a:ext cx="31428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701120" y="222408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702560" y="2225520"/>
                <a:ext cx="306360" cy="30672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704360" y="2227320"/>
                <a:ext cx="30168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05800" y="222876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05800" y="2228760"/>
                <a:ext cx="29520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07600" y="223056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09040" y="223200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10480" y="2233440"/>
                <a:ext cx="2826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712280" y="223524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12280" y="2235240"/>
                <a:ext cx="27612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713720" y="223668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715520" y="223848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716960" y="223992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18400" y="2241720"/>
                <a:ext cx="26064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18400" y="2241720"/>
                <a:ext cx="25740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720200" y="224316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721640" y="2244600"/>
                <a:ext cx="249480" cy="2494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23440" y="224640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24880" y="2247840"/>
                <a:ext cx="2412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24880" y="2247840"/>
                <a:ext cx="23832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726320" y="2249640"/>
                <a:ext cx="23364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28120" y="2251080"/>
                <a:ext cx="23004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729560" y="2252520"/>
                <a:ext cx="225360" cy="22572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731360" y="2254320"/>
                <a:ext cx="222120" cy="2206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31360" y="2254320"/>
                <a:ext cx="21888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32800" y="2255760"/>
                <a:ext cx="21420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734600" y="2257560"/>
                <a:ext cx="21096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736040" y="2259000"/>
                <a:ext cx="20628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737480" y="2260440"/>
                <a:ext cx="201600" cy="2016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739280" y="2260440"/>
                <a:ext cx="198360" cy="2001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739280" y="2262240"/>
                <a:ext cx="19512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740720" y="2263680"/>
                <a:ext cx="192240" cy="1922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42520" y="226548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743960" y="2266920"/>
                <a:ext cx="182520" cy="1825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745400" y="2268360"/>
                <a:ext cx="179640" cy="17964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745400" y="2268360"/>
                <a:ext cx="17640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747200" y="2270160"/>
                <a:ext cx="172800" cy="1731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48640" y="2271600"/>
                <a:ext cx="16848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50440" y="2273400"/>
                <a:ext cx="163440" cy="1634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751880" y="2274840"/>
                <a:ext cx="160200" cy="16056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751880" y="2274840"/>
                <a:ext cx="15732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53320" y="2276640"/>
                <a:ext cx="154080" cy="15372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55120" y="2278080"/>
                <a:ext cx="14904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756560" y="2279520"/>
                <a:ext cx="144720" cy="14472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58360" y="2281320"/>
                <a:ext cx="141120" cy="1411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58360" y="2281320"/>
                <a:ext cx="13788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59800" y="2282760"/>
                <a:ext cx="135000" cy="1350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761600" y="2284560"/>
                <a:ext cx="12996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63040" y="2286000"/>
                <a:ext cx="125280" cy="1252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764480" y="2287440"/>
                <a:ext cx="12240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3792600" y="1908000"/>
              <a:ext cx="4272120" cy="2213280"/>
              <a:chOff x="3792600" y="1908000"/>
              <a:chExt cx="4272120" cy="2213280"/>
            </a:xfrm>
          </p:grpSpPr>
          <p:sp>
            <p:nvSpPr>
              <p:cNvPr id="891" name=""/>
              <p:cNvSpPr/>
              <p:nvPr/>
            </p:nvSpPr>
            <p:spPr>
              <a:xfrm>
                <a:off x="7764480" y="2287440"/>
                <a:ext cx="11916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766280" y="2289240"/>
                <a:ext cx="11592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67720" y="2290680"/>
                <a:ext cx="11124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69520" y="2292480"/>
                <a:ext cx="106200" cy="1062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0960" y="2293920"/>
                <a:ext cx="10332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70960" y="229392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72400" y="2295360"/>
                <a:ext cx="95400" cy="954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74200" y="229716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2298600"/>
                <a:ext cx="8748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77440" y="2300400"/>
                <a:ext cx="83880" cy="8388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77440" y="2300400"/>
                <a:ext cx="810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78880" y="230184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80320" y="2303640"/>
                <a:ext cx="73080" cy="7272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82120" y="2305080"/>
                <a:ext cx="6804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83560" y="230652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83560" y="2306520"/>
                <a:ext cx="6192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785360" y="2308320"/>
                <a:ext cx="5688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86800" y="2309760"/>
                <a:ext cx="5400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88240" y="2311560"/>
                <a:ext cx="49320" cy="4896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90040" y="231300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790040" y="2313000"/>
                <a:ext cx="428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91480" y="2314440"/>
                <a:ext cx="3816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93280" y="231624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94720" y="2317680"/>
                <a:ext cx="3024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96520" y="2319480"/>
                <a:ext cx="2664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96520" y="2319480"/>
                <a:ext cx="2376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97960" y="232092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9400" y="2322360"/>
                <a:ext cx="15840" cy="1620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01200" y="2324160"/>
                <a:ext cx="1116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802640" y="2325600"/>
                <a:ext cx="7920" cy="648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02640" y="2325600"/>
                <a:ext cx="4680" cy="46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80600" y="2203560"/>
                <a:ext cx="374400" cy="3744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89960" y="3745080"/>
                <a:ext cx="374760" cy="3762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91400" y="374652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93200" y="3747960"/>
                <a:ext cx="366840" cy="36684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93200" y="374976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94640" y="3751200"/>
                <a:ext cx="360360" cy="35892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96440" y="3751200"/>
                <a:ext cx="355320" cy="35712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97880" y="375300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99680" y="3754440"/>
                <a:ext cx="347400" cy="34776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99680" y="3755880"/>
                <a:ext cx="34416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701120" y="3757680"/>
                <a:ext cx="341280" cy="3394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702560" y="3757680"/>
                <a:ext cx="336600" cy="33804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704360" y="375912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705800" y="3760920"/>
                <a:ext cx="328680" cy="32832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705800" y="376236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707600" y="3763800"/>
                <a:ext cx="32220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709040" y="3763800"/>
                <a:ext cx="317520" cy="3193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710480" y="3765600"/>
                <a:ext cx="314640" cy="31428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12280" y="376704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12280" y="3768840"/>
                <a:ext cx="3063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13720" y="3770280"/>
                <a:ext cx="30312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715520" y="3770280"/>
                <a:ext cx="298440" cy="3002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16960" y="3772080"/>
                <a:ext cx="29376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718400" y="377352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718400" y="3774960"/>
                <a:ext cx="28764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20200" y="3776760"/>
                <a:ext cx="28404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721640" y="3778200"/>
                <a:ext cx="279360" cy="27792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723440" y="3778200"/>
                <a:ext cx="27468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724880" y="378000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24880" y="378144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726320" y="3782880"/>
                <a:ext cx="2653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28120" y="3784680"/>
                <a:ext cx="260280" cy="25884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29560" y="3784680"/>
                <a:ext cx="255600" cy="25704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731360" y="378612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731360" y="3787920"/>
                <a:ext cx="249120" cy="24912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32800" y="3789360"/>
                <a:ext cx="2462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734600" y="3790800"/>
                <a:ext cx="241200" cy="23976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736040" y="3790800"/>
                <a:ext cx="236520" cy="2383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737480" y="3792600"/>
                <a:ext cx="23364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739280" y="3794040"/>
                <a:ext cx="228600" cy="23040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39280" y="3795840"/>
                <a:ext cx="22680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740720" y="3797280"/>
                <a:ext cx="222480" cy="2206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742520" y="3797280"/>
                <a:ext cx="217440" cy="2192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43960" y="3798720"/>
                <a:ext cx="21420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745400" y="3800520"/>
                <a:ext cx="20952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45400" y="3801960"/>
                <a:ext cx="208080" cy="20664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747200" y="3803760"/>
                <a:ext cx="203040" cy="2016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48640" y="3803760"/>
                <a:ext cx="198360" cy="19980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750440" y="3805200"/>
                <a:ext cx="195120" cy="19548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751880" y="3807000"/>
                <a:ext cx="190440" cy="19188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751880" y="380844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53320" y="3809880"/>
                <a:ext cx="184320" cy="1825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755120" y="3809880"/>
                <a:ext cx="17928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56560" y="3811680"/>
                <a:ext cx="17640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58360" y="3813120"/>
                <a:ext cx="171360" cy="1713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58360" y="3814920"/>
                <a:ext cx="168120" cy="16812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759800" y="3816360"/>
                <a:ext cx="165240" cy="1634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61600" y="3816360"/>
                <a:ext cx="160200" cy="1620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63040" y="3817800"/>
                <a:ext cx="15696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64480" y="3819600"/>
                <a:ext cx="15264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64480" y="3821040"/>
                <a:ext cx="149400" cy="14940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66280" y="3822840"/>
                <a:ext cx="145800" cy="1443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67720" y="3822840"/>
                <a:ext cx="141480" cy="14256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769520" y="3824280"/>
                <a:ext cx="137880" cy="13824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770960" y="3825720"/>
                <a:ext cx="133200" cy="13356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770960" y="3827520"/>
                <a:ext cx="13032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772400" y="3828960"/>
                <a:ext cx="127080" cy="12564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774200" y="3828960"/>
                <a:ext cx="122040" cy="12384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775640" y="3830760"/>
                <a:ext cx="119160" cy="11880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777440" y="3832200"/>
                <a:ext cx="114120" cy="11448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777440" y="3833640"/>
                <a:ext cx="11088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778880" y="3835440"/>
                <a:ext cx="108000" cy="1062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780320" y="3835440"/>
                <a:ext cx="103320" cy="10476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82120" y="3836880"/>
                <a:ext cx="1000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783560" y="3838680"/>
                <a:ext cx="95400" cy="950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83560" y="3840120"/>
                <a:ext cx="9216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85360" y="3841920"/>
                <a:ext cx="88920" cy="8712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786800" y="3841920"/>
                <a:ext cx="84240" cy="8568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788240" y="3843360"/>
                <a:ext cx="7956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0040" y="3844800"/>
                <a:ext cx="7632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790040" y="3846600"/>
                <a:ext cx="730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791480" y="3848040"/>
                <a:ext cx="6984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793280" y="3849840"/>
                <a:ext cx="65160" cy="633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794720" y="3849840"/>
                <a:ext cx="6048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796520" y="3851280"/>
                <a:ext cx="56880" cy="5724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796520" y="3852720"/>
                <a:ext cx="5364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797960" y="3854520"/>
                <a:ext cx="5076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799400" y="3855960"/>
                <a:ext cx="46080" cy="4464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801200" y="3855960"/>
                <a:ext cx="4104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802640" y="3857760"/>
                <a:ext cx="38160" cy="3780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802640" y="385920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04440" y="3860640"/>
                <a:ext cx="3168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05880" y="3862440"/>
                <a:ext cx="27000" cy="252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07320" y="3862440"/>
                <a:ext cx="22320" cy="2376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09120" y="386388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810560" y="3865680"/>
                <a:ext cx="1440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810560" y="3867120"/>
                <a:ext cx="1260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812360" y="3868560"/>
                <a:ext cx="7920" cy="648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813800" y="3868560"/>
                <a:ext cx="3240" cy="504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89960" y="3745080"/>
                <a:ext cx="374760" cy="3762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792600" y="1908000"/>
                <a:ext cx="374760" cy="37476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792600" y="190800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794400" y="1909800"/>
                <a:ext cx="368280" cy="36828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95840" y="1911240"/>
                <a:ext cx="3636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797280" y="1913040"/>
                <a:ext cx="360360" cy="3585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799080" y="1914480"/>
                <a:ext cx="35568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00520" y="1914480"/>
                <a:ext cx="35100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00520" y="1916280"/>
                <a:ext cx="349200" cy="3474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802320" y="191772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803760" y="1919160"/>
                <a:ext cx="341280" cy="33984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05200" y="1920960"/>
                <a:ext cx="33660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07000" y="1920960"/>
                <a:ext cx="33192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07000" y="1922400"/>
                <a:ext cx="33012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808440" y="192420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10240" y="1925640"/>
                <a:ext cx="32040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811680" y="1927080"/>
                <a:ext cx="3175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813480" y="1927080"/>
                <a:ext cx="312480" cy="3146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813480" y="1928880"/>
                <a:ext cx="31104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814920" y="1930320"/>
                <a:ext cx="3063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816360" y="1932120"/>
                <a:ext cx="301680" cy="30132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818160" y="193356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819600" y="1933560"/>
                <a:ext cx="293760" cy="2952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819600" y="1935000"/>
                <a:ext cx="2923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821400" y="193680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822840" y="1938240"/>
                <a:ext cx="2826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824280" y="1940040"/>
                <a:ext cx="27972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826080" y="1940040"/>
                <a:ext cx="274680" cy="27612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826080" y="1941480"/>
                <a:ext cx="27288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827520" y="194328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829320" y="1944720"/>
                <a:ext cx="26352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830760" y="1946160"/>
                <a:ext cx="260280" cy="26064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832200" y="1946160"/>
                <a:ext cx="255600" cy="2574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32200" y="1947960"/>
                <a:ext cx="2541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834000" y="1949400"/>
                <a:ext cx="249120" cy="24912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35440" y="1951200"/>
                <a:ext cx="24444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37240" y="1952640"/>
                <a:ext cx="241200" cy="23976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838680" y="1952640"/>
                <a:ext cx="236520" cy="23796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838680" y="1954080"/>
                <a:ext cx="233280" cy="2336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840120" y="1955880"/>
                <a:ext cx="23040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841920" y="1957320"/>
                <a:ext cx="225360" cy="2253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843360" y="1959120"/>
                <a:ext cx="222480" cy="2206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845160" y="1959120"/>
                <a:ext cx="217440" cy="21888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845160" y="1960560"/>
                <a:ext cx="214200" cy="2142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846600" y="1962000"/>
                <a:ext cx="211320" cy="21132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848400" y="1963800"/>
                <a:ext cx="20628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849840" y="1965240"/>
                <a:ext cx="203040" cy="2016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851280" y="1965240"/>
                <a:ext cx="198720" cy="2001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51280" y="1967040"/>
                <a:ext cx="19548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853080" y="1968480"/>
                <a:ext cx="191880" cy="1922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854520" y="1969920"/>
                <a:ext cx="187560" cy="18756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856320" y="1971720"/>
                <a:ext cx="183960" cy="1825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857760" y="1971720"/>
                <a:ext cx="179280" cy="1810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857760" y="1973160"/>
                <a:ext cx="17604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859200" y="1974960"/>
                <a:ext cx="173160" cy="17280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861000" y="1976400"/>
                <a:ext cx="16812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862440" y="1978200"/>
                <a:ext cx="165240" cy="16344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864240" y="1979640"/>
                <a:ext cx="16020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864240" y="1979640"/>
                <a:ext cx="156960" cy="15696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865680" y="1981080"/>
                <a:ext cx="154080" cy="1540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867120" y="1982880"/>
                <a:ext cx="14940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868920" y="1984320"/>
                <a:ext cx="146160" cy="1443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870360" y="1986120"/>
                <a:ext cx="141480" cy="1411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872160" y="1986120"/>
                <a:ext cx="13644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872160" y="1987560"/>
                <a:ext cx="135000" cy="1350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873600" y="1989000"/>
                <a:ext cx="130320" cy="13032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875400" y="1990800"/>
                <a:ext cx="125280" cy="1252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876840" y="1992240"/>
                <a:ext cx="12204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878280" y="1992240"/>
                <a:ext cx="11772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878280" y="1994040"/>
                <a:ext cx="115920" cy="1141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3065760" y="1676520"/>
              <a:ext cx="1101600" cy="1982520"/>
              <a:chOff x="3065760" y="1676520"/>
              <a:chExt cx="1101600" cy="198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3880080" y="1995480"/>
                <a:ext cx="11088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881520" y="1996920"/>
                <a:ext cx="106560" cy="10656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3320" y="1998720"/>
                <a:ext cx="102960" cy="10296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884760" y="1998720"/>
                <a:ext cx="98280" cy="10008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884760" y="2000160"/>
                <a:ext cx="96840" cy="9540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886200" y="2001960"/>
                <a:ext cx="92160" cy="9180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888000" y="2003400"/>
                <a:ext cx="8712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889440" y="2004840"/>
                <a:ext cx="84240" cy="8424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91240" y="2004840"/>
                <a:ext cx="79200" cy="8100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91240" y="2006640"/>
                <a:ext cx="77760" cy="7632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92680" y="2008080"/>
                <a:ext cx="730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894120" y="2009880"/>
                <a:ext cx="68400" cy="6804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895920" y="201132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97360" y="2011320"/>
                <a:ext cx="60480" cy="619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97360" y="2013120"/>
                <a:ext cx="58680" cy="568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899160" y="2014560"/>
                <a:ext cx="5400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900600" y="2016000"/>
                <a:ext cx="49320" cy="4932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02040" y="201780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903840" y="2017800"/>
                <a:ext cx="41400" cy="4284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03840" y="2019240"/>
                <a:ext cx="3960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5280" y="2021040"/>
                <a:ext cx="3492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907080" y="2022480"/>
                <a:ext cx="2988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908520" y="202392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910320" y="2023920"/>
                <a:ext cx="21960" cy="241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910320" y="2025720"/>
                <a:ext cx="1872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11760" y="2027160"/>
                <a:ext cx="1584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13200" y="2028960"/>
                <a:ext cx="11160" cy="1080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915000" y="2030400"/>
                <a:ext cx="7920" cy="648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916440" y="2030400"/>
                <a:ext cx="3240" cy="46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92600" y="1908000"/>
                <a:ext cx="374760" cy="374760"/>
              </a:xfrm>
              <a:prstGeom prst="ellipse">
                <a:avLst/>
              </a:prstGeom>
              <a:noFill/>
              <a:ln w="0">
                <a:solidFill>
                  <a:srgbClr val="96969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100680" y="1676520"/>
                <a:ext cx="374400" cy="3744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102120" y="167652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03560" y="1677960"/>
                <a:ext cx="366840" cy="36828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103560" y="1679400"/>
                <a:ext cx="365400" cy="36360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05360" y="1681200"/>
                <a:ext cx="360360" cy="3585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106800" y="1682640"/>
                <a:ext cx="35568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108600" y="168264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110040" y="1684440"/>
                <a:ext cx="347760" cy="34920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11480" y="168588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111480" y="1687680"/>
                <a:ext cx="341640" cy="3394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113280" y="1689120"/>
                <a:ext cx="33660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114720" y="1689120"/>
                <a:ext cx="333360" cy="33336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116520" y="1690560"/>
                <a:ext cx="328320" cy="3304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117960" y="1692360"/>
                <a:ext cx="32400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117960" y="1693800"/>
                <a:ext cx="322200" cy="32076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119400" y="1695600"/>
                <a:ext cx="3175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121200" y="1697040"/>
                <a:ext cx="314280" cy="3128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122640" y="1697040"/>
                <a:ext cx="309600" cy="31104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124440" y="1698480"/>
                <a:ext cx="304560" cy="30636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124440" y="1700280"/>
                <a:ext cx="303120" cy="30168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125880" y="1701720"/>
                <a:ext cx="2984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127680" y="1703520"/>
                <a:ext cx="295200" cy="2934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129120" y="1703520"/>
                <a:ext cx="290520" cy="29196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130560" y="1704960"/>
                <a:ext cx="28584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130560" y="1706400"/>
                <a:ext cx="284400" cy="28260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132360" y="170820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133800" y="1709640"/>
                <a:ext cx="276120" cy="27468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135600" y="1709640"/>
                <a:ext cx="271440" cy="2732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137040" y="1711440"/>
                <a:ext cx="26676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137040" y="1712880"/>
                <a:ext cx="264960" cy="2635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138480" y="1714680"/>
                <a:ext cx="26064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140280" y="1716120"/>
                <a:ext cx="257040" cy="2556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41720" y="1716120"/>
                <a:ext cx="252360" cy="25236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143520" y="1717560"/>
                <a:ext cx="247680" cy="2494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143520" y="1719360"/>
                <a:ext cx="245880" cy="24444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44960" y="1720800"/>
                <a:ext cx="24120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146400" y="1722600"/>
                <a:ext cx="238320" cy="2365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148200" y="172260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149640" y="1724040"/>
                <a:ext cx="22860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49640" y="1725480"/>
                <a:ext cx="227160" cy="22572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151440" y="1727280"/>
                <a:ext cx="222120" cy="22212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2880" y="1728720"/>
                <a:ext cx="217440" cy="2174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154320" y="1728720"/>
                <a:ext cx="214560" cy="21456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156120" y="1730520"/>
                <a:ext cx="20952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56120" y="1731960"/>
                <a:ext cx="20808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157560" y="1733400"/>
                <a:ext cx="203400" cy="2034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59360" y="1735200"/>
                <a:ext cx="198360" cy="1983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60800" y="1735200"/>
                <a:ext cx="195480" cy="19512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62600" y="1736640"/>
                <a:ext cx="190440" cy="1922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162600" y="1738440"/>
                <a:ext cx="18864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164040" y="1739880"/>
                <a:ext cx="183960" cy="1843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65480" y="1741320"/>
                <a:ext cx="179640" cy="17964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167280" y="1741320"/>
                <a:ext cx="176040" cy="17640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168720" y="1743120"/>
                <a:ext cx="171360" cy="17316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168720" y="1744560"/>
                <a:ext cx="16992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170520" y="1746360"/>
                <a:ext cx="164880" cy="16488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71960" y="1747800"/>
                <a:ext cx="160200" cy="16020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73400" y="1747800"/>
                <a:ext cx="157320" cy="15732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175200" y="1749600"/>
                <a:ext cx="152280" cy="15372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175200" y="1751040"/>
                <a:ext cx="15084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176640" y="1752480"/>
                <a:ext cx="146160" cy="14472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178440" y="1754280"/>
                <a:ext cx="141120" cy="1411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179880" y="1754280"/>
                <a:ext cx="138240" cy="13788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181320" y="1755720"/>
                <a:ext cx="133560" cy="1350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183120" y="1757520"/>
                <a:ext cx="12852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183120" y="1758960"/>
                <a:ext cx="127080" cy="1252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184560" y="1760400"/>
                <a:ext cx="12240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186360" y="1760400"/>
                <a:ext cx="11880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187800" y="1762200"/>
                <a:ext cx="114480" cy="11592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189600" y="1763640"/>
                <a:ext cx="10944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189600" y="1765440"/>
                <a:ext cx="107640" cy="1062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191040" y="1766880"/>
                <a:ext cx="103320" cy="103320"/>
              </a:xfrm>
              <a:prstGeom prst="ellipse">
                <a:avLst/>
              </a:prstGeom>
              <a:solidFill>
                <a:srgbClr val="2652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192480" y="1768320"/>
                <a:ext cx="100080" cy="98640"/>
              </a:xfrm>
              <a:prstGeom prst="ellipse">
                <a:avLst/>
              </a:prstGeom>
              <a:solidFill>
                <a:srgbClr val="28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194280" y="1768320"/>
                <a:ext cx="95040" cy="96840"/>
              </a:xfrm>
              <a:prstGeom prst="ellipse">
                <a:avLst/>
              </a:prstGeom>
              <a:solidFill>
                <a:srgbClr val="2a5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195720" y="1770120"/>
                <a:ext cx="90720" cy="92160"/>
              </a:xfrm>
              <a:prstGeom prst="ellipse">
                <a:avLst/>
              </a:prstGeom>
              <a:solidFill>
                <a:srgbClr val="2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95720" y="1771560"/>
                <a:ext cx="88920" cy="87480"/>
              </a:xfrm>
              <a:prstGeom prst="ellipse">
                <a:avLst/>
              </a:prstGeom>
              <a:solidFill>
                <a:srgbClr val="2d5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197520" y="1773360"/>
                <a:ext cx="83880" cy="83880"/>
              </a:xfrm>
              <a:prstGeom prst="ellipse">
                <a:avLst/>
              </a:prstGeom>
              <a:solidFill>
                <a:srgbClr val="2f5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98960" y="1774800"/>
                <a:ext cx="81000" cy="79560"/>
              </a:xfrm>
              <a:prstGeom prst="ellipse">
                <a:avLst/>
              </a:prstGeom>
              <a:solidFill>
                <a:srgbClr val="315a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200400" y="1774800"/>
                <a:ext cx="76320" cy="77760"/>
              </a:xfrm>
              <a:prstGeom prst="ellipse">
                <a:avLst/>
              </a:prstGeom>
              <a:solidFill>
                <a:srgbClr val="325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202200" y="1776240"/>
                <a:ext cx="71280" cy="73080"/>
              </a:xfrm>
              <a:prstGeom prst="ellipse">
                <a:avLst/>
              </a:prstGeom>
              <a:solidFill>
                <a:srgbClr val="34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202200" y="1778040"/>
                <a:ext cx="69840" cy="68400"/>
              </a:xfrm>
              <a:prstGeom prst="ellipse">
                <a:avLst/>
              </a:prstGeom>
              <a:solidFill>
                <a:srgbClr val="365e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203640" y="1779480"/>
                <a:ext cx="65160" cy="65160"/>
              </a:xfrm>
              <a:prstGeom prst="ellipse">
                <a:avLst/>
              </a:prstGeom>
              <a:solidFill>
                <a:srgbClr val="38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205440" y="1781280"/>
                <a:ext cx="61920" cy="60120"/>
              </a:xfrm>
              <a:prstGeom prst="ellipse">
                <a:avLst/>
              </a:prstGeom>
              <a:solidFill>
                <a:srgbClr val="396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206880" y="1781280"/>
                <a:ext cx="57240" cy="58680"/>
              </a:xfrm>
              <a:prstGeom prst="ellipse">
                <a:avLst/>
              </a:prstGeom>
              <a:solidFill>
                <a:srgbClr val="3b6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208320" y="1782720"/>
                <a:ext cx="52560" cy="54000"/>
              </a:xfrm>
              <a:prstGeom prst="ellipse">
                <a:avLst/>
              </a:prstGeom>
              <a:solidFill>
                <a:srgbClr val="3d64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208320" y="1784520"/>
                <a:ext cx="51120" cy="48960"/>
              </a:xfrm>
              <a:prstGeom prst="ellipse">
                <a:avLst/>
              </a:prstGeom>
              <a:solidFill>
                <a:srgbClr val="3e65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210120" y="1785960"/>
                <a:ext cx="46080" cy="46080"/>
              </a:xfrm>
              <a:prstGeom prst="ellipse">
                <a:avLst/>
              </a:prstGeom>
              <a:solidFill>
                <a:srgbClr val="406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211560" y="1787400"/>
                <a:ext cx="42840" cy="41400"/>
              </a:xfrm>
              <a:prstGeom prst="ellipse">
                <a:avLst/>
              </a:prstGeom>
              <a:solidFill>
                <a:srgbClr val="42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213360" y="1787400"/>
                <a:ext cx="37800" cy="38160"/>
              </a:xfrm>
              <a:prstGeom prst="ellipse">
                <a:avLst/>
              </a:prstGeom>
              <a:solidFill>
                <a:srgbClr val="446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214800" y="1789200"/>
                <a:ext cx="33480" cy="34920"/>
              </a:xfrm>
              <a:prstGeom prst="ellipse">
                <a:avLst/>
              </a:prstGeom>
              <a:solidFill>
                <a:srgbClr val="456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214800" y="1790640"/>
                <a:ext cx="31680" cy="30240"/>
              </a:xfrm>
              <a:prstGeom prst="ellipse">
                <a:avLst/>
              </a:prstGeom>
              <a:solidFill>
                <a:srgbClr val="476c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216240" y="1792440"/>
                <a:ext cx="27000" cy="27000"/>
              </a:xfrm>
              <a:prstGeom prst="ellipse">
                <a:avLst/>
              </a:prstGeom>
              <a:solidFill>
                <a:srgbClr val="496d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218040" y="1793880"/>
                <a:ext cx="22320" cy="22320"/>
              </a:xfrm>
              <a:prstGeom prst="ellipse">
                <a:avLst/>
              </a:prstGeom>
              <a:solidFill>
                <a:srgbClr val="4b6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219480" y="1793880"/>
                <a:ext cx="19080" cy="19080"/>
              </a:xfrm>
              <a:prstGeom prst="ellipse">
                <a:avLst/>
              </a:prstGeom>
              <a:solidFill>
                <a:srgbClr val="4c70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221280" y="1795320"/>
                <a:ext cx="14040" cy="15840"/>
              </a:xfrm>
              <a:prstGeom prst="ellipse">
                <a:avLst/>
              </a:prstGeom>
              <a:solidFill>
                <a:srgbClr val="4e7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221280" y="1797120"/>
                <a:ext cx="12600" cy="11160"/>
              </a:xfrm>
              <a:prstGeom prst="ellipse">
                <a:avLst/>
              </a:prstGeom>
              <a:solidFill>
                <a:srgbClr val="507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222720" y="1798560"/>
                <a:ext cx="7920" cy="7920"/>
              </a:xfrm>
              <a:prstGeom prst="ellipse">
                <a:avLst/>
              </a:prstGeom>
              <a:solidFill>
                <a:srgbClr val="527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224520" y="1800360"/>
                <a:ext cx="2880" cy="2880"/>
              </a:xfrm>
              <a:prstGeom prst="ellipse">
                <a:avLst/>
              </a:prstGeom>
              <a:solidFill>
                <a:srgbClr val="537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100680" y="1676520"/>
                <a:ext cx="374400" cy="3744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065760" y="3284640"/>
                <a:ext cx="376200" cy="374400"/>
              </a:xfrm>
              <a:prstGeom prst="ellipse">
                <a:avLst/>
              </a:prstGeom>
              <a:solidFill>
                <a:srgbClr val="002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067200" y="3286080"/>
                <a:ext cx="371520" cy="371520"/>
              </a:xfrm>
              <a:prstGeom prst="ellipse">
                <a:avLst/>
              </a:prstGeom>
              <a:solidFill>
                <a:srgbClr val="0022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068640" y="3287880"/>
                <a:ext cx="366840" cy="366480"/>
              </a:xfrm>
              <a:prstGeom prst="ellipse">
                <a:avLst/>
              </a:prstGeom>
              <a:solidFill>
                <a:srgbClr val="00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70440" y="3287880"/>
                <a:ext cx="363600" cy="363240"/>
              </a:xfrm>
              <a:prstGeom prst="ellipse">
                <a:avLst/>
              </a:prstGeom>
              <a:solidFill>
                <a:srgbClr val="002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071880" y="3289320"/>
                <a:ext cx="358920" cy="360360"/>
              </a:xfrm>
              <a:prstGeom prst="ellipse">
                <a:avLst/>
              </a:prstGeom>
              <a:solidFill>
                <a:srgbClr val="00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071880" y="3290760"/>
                <a:ext cx="357120" cy="355680"/>
              </a:xfrm>
              <a:prstGeom prst="ellipse">
                <a:avLst/>
              </a:prstGeom>
              <a:solidFill>
                <a:srgbClr val="002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73680" y="3292560"/>
                <a:ext cx="352440" cy="352440"/>
              </a:xfrm>
              <a:prstGeom prst="ellipse">
                <a:avLst/>
              </a:prstGeom>
              <a:solidFill>
                <a:srgbClr val="002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075120" y="3294000"/>
                <a:ext cx="347760" cy="347760"/>
              </a:xfrm>
              <a:prstGeom prst="ellipse">
                <a:avLst/>
              </a:prstGeom>
              <a:solidFill>
                <a:srgbClr val="002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076560" y="3294000"/>
                <a:ext cx="344520" cy="34452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078360" y="3295800"/>
                <a:ext cx="339840" cy="341280"/>
              </a:xfrm>
              <a:prstGeom prst="ellipse">
                <a:avLst/>
              </a:prstGeom>
              <a:solidFill>
                <a:srgbClr val="002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78360" y="3297240"/>
                <a:ext cx="338040" cy="336600"/>
              </a:xfrm>
              <a:prstGeom prst="ellipse">
                <a:avLst/>
              </a:prstGeom>
              <a:solidFill>
                <a:srgbClr val="0025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079800" y="3298680"/>
                <a:ext cx="333360" cy="33192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081600" y="3300480"/>
                <a:ext cx="328320" cy="328680"/>
              </a:xfrm>
              <a:prstGeom prst="ellipse">
                <a:avLst/>
              </a:prstGeom>
              <a:solidFill>
                <a:srgbClr val="0026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83040" y="3300480"/>
                <a:ext cx="325440" cy="325440"/>
              </a:xfrm>
              <a:prstGeom prst="ellipse">
                <a:avLst/>
              </a:prstGeom>
              <a:solidFill>
                <a:srgbClr val="0027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084480" y="3301920"/>
                <a:ext cx="320760" cy="32220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084480" y="3303720"/>
                <a:ext cx="319320" cy="317520"/>
              </a:xfrm>
              <a:prstGeom prst="ellipse">
                <a:avLst/>
              </a:prstGeom>
              <a:solidFill>
                <a:srgbClr val="0027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086280" y="3305160"/>
                <a:ext cx="314280" cy="312840"/>
              </a:xfrm>
              <a:prstGeom prst="ellipse">
                <a:avLst/>
              </a:prstGeom>
              <a:solidFill>
                <a:srgbClr val="002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087720" y="3306600"/>
                <a:ext cx="309600" cy="30960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089520" y="3306600"/>
                <a:ext cx="306360" cy="306720"/>
              </a:xfrm>
              <a:prstGeom prst="ellipse">
                <a:avLst/>
              </a:prstGeom>
              <a:solidFill>
                <a:srgbClr val="002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090960" y="3308400"/>
                <a:ext cx="301680" cy="303120"/>
              </a:xfrm>
              <a:prstGeom prst="ellipse">
                <a:avLst/>
              </a:prstGeom>
              <a:solidFill>
                <a:srgbClr val="0029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090960" y="3309840"/>
                <a:ext cx="300240" cy="298440"/>
              </a:xfrm>
              <a:prstGeom prst="ellipse">
                <a:avLst/>
              </a:prstGeom>
              <a:solidFill>
                <a:srgbClr val="002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092760" y="3311640"/>
                <a:ext cx="295200" cy="293400"/>
              </a:xfrm>
              <a:prstGeom prst="ellipse">
                <a:avLst/>
              </a:prstGeom>
              <a:solidFill>
                <a:srgbClr val="0029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94200" y="3313080"/>
                <a:ext cx="290520" cy="290520"/>
              </a:xfrm>
              <a:prstGeom prst="ellipse">
                <a:avLst/>
              </a:prstGeom>
              <a:solidFill>
                <a:srgbClr val="002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95640" y="3313080"/>
                <a:ext cx="287280" cy="287280"/>
              </a:xfrm>
              <a:prstGeom prst="ellipse">
                <a:avLst/>
              </a:prstGeom>
              <a:solidFill>
                <a:srgbClr val="002a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7440" y="3314880"/>
                <a:ext cx="282600" cy="284040"/>
              </a:xfrm>
              <a:prstGeom prst="ellipse">
                <a:avLst/>
              </a:prstGeom>
              <a:solidFill>
                <a:srgbClr val="002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097440" y="3316320"/>
                <a:ext cx="279360" cy="279360"/>
              </a:xfrm>
              <a:prstGeom prst="ellipse">
                <a:avLst/>
              </a:prstGeom>
              <a:solidFill>
                <a:srgbClr val="002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098880" y="3317760"/>
                <a:ext cx="276120" cy="274680"/>
              </a:xfrm>
              <a:prstGeom prst="ellipse">
                <a:avLst/>
              </a:prstGeom>
              <a:solidFill>
                <a:srgbClr val="002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100680" y="3319560"/>
                <a:ext cx="271440" cy="271440"/>
              </a:xfrm>
              <a:prstGeom prst="ellipse">
                <a:avLst/>
              </a:prstGeom>
              <a:solidFill>
                <a:srgbClr val="002b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102120" y="3319560"/>
                <a:ext cx="268200" cy="268200"/>
              </a:xfrm>
              <a:prstGeom prst="ellipse">
                <a:avLst/>
              </a:prstGeom>
              <a:solidFill>
                <a:srgbClr val="002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103560" y="3321000"/>
                <a:ext cx="263520" cy="265320"/>
              </a:xfrm>
              <a:prstGeom prst="ellipse">
                <a:avLst/>
              </a:prstGeom>
              <a:solidFill>
                <a:srgbClr val="002c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103560" y="3322800"/>
                <a:ext cx="260640" cy="260280"/>
              </a:xfrm>
              <a:prstGeom prst="ellipse">
                <a:avLst/>
              </a:prstGeom>
              <a:solidFill>
                <a:srgbClr val="002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105360" y="3324240"/>
                <a:ext cx="257040" cy="25560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106800" y="3325680"/>
                <a:ext cx="252360" cy="252720"/>
              </a:xfrm>
              <a:prstGeom prst="ellipse">
                <a:avLst/>
              </a:prstGeom>
              <a:solidFill>
                <a:srgbClr val="002d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08600" y="3325680"/>
                <a:ext cx="249120" cy="249480"/>
              </a:xfrm>
              <a:prstGeom prst="ellipse">
                <a:avLst/>
              </a:prstGeom>
              <a:solidFill>
                <a:srgbClr val="002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10040" y="3327480"/>
                <a:ext cx="244440" cy="24588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111480" y="3328920"/>
                <a:ext cx="239760" cy="241200"/>
              </a:xfrm>
              <a:prstGeom prst="ellipse">
                <a:avLst/>
              </a:prstGeom>
              <a:solidFill>
                <a:srgbClr val="002e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111480" y="3330720"/>
                <a:ext cx="238320" cy="236520"/>
              </a:xfrm>
              <a:prstGeom prst="ellipse">
                <a:avLst/>
              </a:prstGeom>
              <a:solidFill>
                <a:srgbClr val="002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113280" y="3332160"/>
                <a:ext cx="233280" cy="23328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114720" y="3332160"/>
                <a:ext cx="230400" cy="230040"/>
              </a:xfrm>
              <a:prstGeom prst="ellipse">
                <a:avLst/>
              </a:prstGeom>
              <a:solidFill>
                <a:srgbClr val="002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116520" y="3333600"/>
                <a:ext cx="225360" cy="227160"/>
              </a:xfrm>
              <a:prstGeom prst="ellipse">
                <a:avLst/>
              </a:prstGeom>
              <a:solidFill>
                <a:srgbClr val="003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117960" y="3335400"/>
                <a:ext cx="220680" cy="22212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117960" y="3336840"/>
                <a:ext cx="219240" cy="217440"/>
              </a:xfrm>
              <a:prstGeom prst="ellipse">
                <a:avLst/>
              </a:prstGeom>
              <a:solidFill>
                <a:srgbClr val="00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119400" y="3338640"/>
                <a:ext cx="214560" cy="214200"/>
              </a:xfrm>
              <a:prstGeom prst="ellipse">
                <a:avLst/>
              </a:prstGeom>
              <a:solidFill>
                <a:srgbClr val="003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121200" y="3338640"/>
                <a:ext cx="210960" cy="210960"/>
              </a:xfrm>
              <a:prstGeom prst="ellipse">
                <a:avLst/>
              </a:prstGeom>
              <a:solidFill>
                <a:srgbClr val="003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122640" y="3340080"/>
                <a:ext cx="206640" cy="206280"/>
              </a:xfrm>
              <a:prstGeom prst="ellipse">
                <a:avLst/>
              </a:prstGeom>
              <a:solidFill>
                <a:srgbClr val="003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124440" y="3341520"/>
                <a:ext cx="201600" cy="203400"/>
              </a:xfrm>
              <a:prstGeom prst="ellipse">
                <a:avLst/>
              </a:prstGeom>
              <a:solidFill>
                <a:srgbClr val="003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124440" y="3343320"/>
                <a:ext cx="199800" cy="198360"/>
              </a:xfrm>
              <a:prstGeom prst="ellipse">
                <a:avLst/>
              </a:prstGeom>
              <a:solidFill>
                <a:srgbClr val="0032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125880" y="3344760"/>
                <a:ext cx="195480" cy="195480"/>
              </a:xfrm>
              <a:prstGeom prst="ellipse">
                <a:avLst/>
              </a:prstGeom>
              <a:solidFill>
                <a:srgbClr val="003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127680" y="3346560"/>
                <a:ext cx="191880" cy="190440"/>
              </a:xfrm>
              <a:prstGeom prst="ellipse">
                <a:avLst/>
              </a:prstGeom>
              <a:solidFill>
                <a:srgbClr val="003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129120" y="3346560"/>
                <a:ext cx="187200" cy="187200"/>
              </a:xfrm>
              <a:prstGeom prst="ellips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130560" y="3348000"/>
                <a:ext cx="182520" cy="184320"/>
              </a:xfrm>
              <a:prstGeom prst="ellipse">
                <a:avLst/>
              </a:prstGeom>
              <a:solidFill>
                <a:srgbClr val="0234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30560" y="3349800"/>
                <a:ext cx="181080" cy="179280"/>
              </a:xfrm>
              <a:prstGeom prst="ellipse">
                <a:avLst/>
              </a:prstGeom>
              <a:solidFill>
                <a:srgbClr val="033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32360" y="3351240"/>
                <a:ext cx="176040" cy="176040"/>
              </a:xfrm>
              <a:prstGeom prst="ellipse">
                <a:avLst/>
              </a:prstGeom>
              <a:solidFill>
                <a:srgbClr val="053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33800" y="3352680"/>
                <a:ext cx="171360" cy="171720"/>
              </a:xfrm>
              <a:prstGeom prst="ellipse">
                <a:avLst/>
              </a:prstGeom>
              <a:solidFill>
                <a:srgbClr val="0739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35600" y="3352680"/>
                <a:ext cx="168120" cy="168480"/>
              </a:xfrm>
              <a:prstGeom prst="ellipse">
                <a:avLst/>
              </a:prstGeom>
              <a:solidFill>
                <a:srgbClr val="093a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37040" y="3354480"/>
                <a:ext cx="163440" cy="164880"/>
              </a:xfrm>
              <a:prstGeom prst="ellipse">
                <a:avLst/>
              </a:prstGeom>
              <a:solidFill>
                <a:srgbClr val="0a3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37040" y="3355920"/>
                <a:ext cx="162000" cy="160560"/>
              </a:xfrm>
              <a:prstGeom prst="ellipse">
                <a:avLst/>
              </a:prstGeom>
              <a:solidFill>
                <a:srgbClr val="0c3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38480" y="3357720"/>
                <a:ext cx="157320" cy="156960"/>
              </a:xfrm>
              <a:prstGeom prst="ellipse">
                <a:avLst/>
              </a:prstGeom>
              <a:solidFill>
                <a:srgbClr val="0e3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40280" y="3359160"/>
                <a:ext cx="152280" cy="152280"/>
              </a:xfrm>
              <a:prstGeom prst="ellipse">
                <a:avLst/>
              </a:prstGeom>
              <a:solidFill>
                <a:srgbClr val="103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41720" y="3359160"/>
                <a:ext cx="149400" cy="149040"/>
              </a:xfrm>
              <a:prstGeom prst="ellipse">
                <a:avLst/>
              </a:prstGeom>
              <a:solidFill>
                <a:srgbClr val="114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43520" y="3360600"/>
                <a:ext cx="144360" cy="146160"/>
              </a:xfrm>
              <a:prstGeom prst="ellipse">
                <a:avLst/>
              </a:prstGeom>
              <a:solidFill>
                <a:srgbClr val="134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43520" y="3362400"/>
                <a:ext cx="142920" cy="141120"/>
              </a:xfrm>
              <a:prstGeom prst="ellipse">
                <a:avLst/>
              </a:prstGeom>
              <a:solidFill>
                <a:srgbClr val="1544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44960" y="3363840"/>
                <a:ext cx="138240" cy="138240"/>
              </a:xfrm>
              <a:prstGeom prst="ellipse">
                <a:avLst/>
              </a:prstGeom>
              <a:solidFill>
                <a:srgbClr val="174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146400" y="3365640"/>
                <a:ext cx="133560" cy="133200"/>
              </a:xfrm>
              <a:prstGeom prst="ellipse">
                <a:avLst/>
              </a:prstGeom>
              <a:solidFill>
                <a:srgbClr val="184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148200" y="3365640"/>
                <a:ext cx="129960" cy="129960"/>
              </a:xfrm>
              <a:prstGeom prst="ellipse">
                <a:avLst/>
              </a:prstGeom>
              <a:solidFill>
                <a:srgbClr val="1a4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149640" y="3367080"/>
                <a:ext cx="125640" cy="127080"/>
              </a:xfrm>
              <a:prstGeom prst="ellipse">
                <a:avLst/>
              </a:prstGeom>
              <a:solidFill>
                <a:srgbClr val="1c4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149640" y="3368520"/>
                <a:ext cx="123840" cy="122400"/>
              </a:xfrm>
              <a:prstGeom prst="ellipse">
                <a:avLst/>
              </a:prstGeom>
              <a:solidFill>
                <a:srgbClr val="1d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51440" y="3370320"/>
                <a:ext cx="118800" cy="119160"/>
              </a:xfrm>
              <a:prstGeom prst="ellipse">
                <a:avLst/>
              </a:prstGeom>
              <a:solidFill>
                <a:srgbClr val="1f4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152880" y="3371760"/>
                <a:ext cx="114480" cy="114480"/>
              </a:xfrm>
              <a:prstGeom prst="ellipse">
                <a:avLst/>
              </a:prstGeom>
              <a:solidFill>
                <a:srgbClr val="214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154320" y="3371760"/>
                <a:ext cx="111240" cy="111240"/>
              </a:xfrm>
              <a:prstGeom prst="ellipse">
                <a:avLst/>
              </a:prstGeom>
              <a:solidFill>
                <a:srgbClr val="234f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156120" y="3373560"/>
                <a:ext cx="106200" cy="108000"/>
              </a:xfrm>
              <a:prstGeom prst="ellipse">
                <a:avLst/>
              </a:prstGeom>
              <a:solidFill>
                <a:srgbClr val="24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>
              <a:off x="3156120" y="3375000"/>
              <a:ext cx="104760" cy="103320"/>
            </a:xfrm>
            <a:prstGeom prst="ellipse">
              <a:avLst/>
            </a:prstGeom>
            <a:solidFill>
              <a:srgbClr val="265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57560" y="3376440"/>
              <a:ext cx="100080" cy="98640"/>
            </a:xfrm>
            <a:prstGeom prst="ellipse">
              <a:avLst/>
            </a:prstGeom>
            <a:solidFill>
              <a:srgbClr val="285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59360" y="3378240"/>
              <a:ext cx="95040" cy="95040"/>
            </a:xfrm>
            <a:prstGeom prst="ellipse">
              <a:avLst/>
            </a:prstGeom>
            <a:solidFill>
              <a:srgbClr val="2a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60800" y="3378240"/>
              <a:ext cx="92160" cy="92160"/>
            </a:xfrm>
            <a:prstGeom prst="ellipse">
              <a:avLst/>
            </a:prstGeom>
            <a:solidFill>
              <a:srgbClr val="2b5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162600" y="3379680"/>
              <a:ext cx="87120" cy="88920"/>
            </a:xfrm>
            <a:prstGeom prst="ellipse">
              <a:avLst/>
            </a:prstGeom>
            <a:solidFill>
              <a:srgbClr val="2d5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162600" y="3381480"/>
              <a:ext cx="85680" cy="83880"/>
            </a:xfrm>
            <a:prstGeom prst="ellipse">
              <a:avLst/>
            </a:prstGeom>
            <a:solidFill>
              <a:srgbClr val="2f5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164040" y="3382920"/>
              <a:ext cx="81000" cy="79560"/>
            </a:xfrm>
            <a:prstGeom prst="ellipse">
              <a:avLst/>
            </a:prstGeom>
            <a:solidFill>
              <a:srgbClr val="315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65480" y="3384720"/>
              <a:ext cx="76320" cy="75960"/>
            </a:xfrm>
            <a:prstGeom prst="ellipse">
              <a:avLst/>
            </a:prstGeom>
            <a:solidFill>
              <a:srgbClr val="32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67280" y="3384720"/>
              <a:ext cx="73080" cy="72720"/>
            </a:xfrm>
            <a:prstGeom prst="ellipse">
              <a:avLst/>
            </a:prstGeom>
            <a:solidFill>
              <a:srgbClr val="345d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68720" y="3386160"/>
              <a:ext cx="68400" cy="69840"/>
            </a:xfrm>
            <a:prstGeom prst="ellipse">
              <a:avLst/>
            </a:prstGeom>
            <a:solidFill>
              <a:srgbClr val="36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168720" y="3387600"/>
              <a:ext cx="65160" cy="65160"/>
            </a:xfrm>
            <a:prstGeom prst="ellipse">
              <a:avLst/>
            </a:prstGeom>
            <a:solidFill>
              <a:srgbClr val="385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70520" y="3389400"/>
              <a:ext cx="61920" cy="60120"/>
            </a:xfrm>
            <a:prstGeom prst="ellipse">
              <a:avLst/>
            </a:prstGeom>
            <a:solidFill>
              <a:srgbClr val="39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71960" y="3390840"/>
              <a:ext cx="57240" cy="57240"/>
            </a:xfrm>
            <a:prstGeom prst="ellipse">
              <a:avLst/>
            </a:prstGeom>
            <a:solidFill>
              <a:srgbClr val="3b6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73400" y="3390840"/>
              <a:ext cx="54000" cy="54000"/>
            </a:xfrm>
            <a:prstGeom prst="ellipse">
              <a:avLst/>
            </a:prstGeom>
            <a:solidFill>
              <a:srgbClr val="3d6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75200" y="3392640"/>
              <a:ext cx="49320" cy="50760"/>
            </a:xfrm>
            <a:prstGeom prst="ellipse">
              <a:avLst/>
            </a:prstGeom>
            <a:solidFill>
              <a:srgbClr val="3e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75200" y="3394080"/>
              <a:ext cx="46080" cy="46080"/>
            </a:xfrm>
            <a:prstGeom prst="ellipse">
              <a:avLst/>
            </a:prstGeom>
            <a:solidFill>
              <a:srgbClr val="406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76640" y="3395520"/>
              <a:ext cx="42840" cy="41400"/>
            </a:xfrm>
            <a:prstGeom prst="ellipse">
              <a:avLst/>
            </a:prstGeom>
            <a:solidFill>
              <a:srgbClr val="426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78440" y="3397320"/>
              <a:ext cx="37800" cy="38160"/>
            </a:xfrm>
            <a:prstGeom prst="ellipse">
              <a:avLst/>
            </a:prstGeom>
            <a:solidFill>
              <a:srgbClr val="446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79880" y="3397320"/>
              <a:ext cx="34920" cy="34920"/>
            </a:xfrm>
            <a:prstGeom prst="ellipse">
              <a:avLst/>
            </a:prstGeom>
            <a:solidFill>
              <a:srgbClr val="456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181320" y="3398760"/>
              <a:ext cx="30240" cy="31680"/>
            </a:xfrm>
            <a:prstGeom prst="ellipse">
              <a:avLst/>
            </a:prstGeom>
            <a:solidFill>
              <a:srgbClr val="476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83120" y="3400560"/>
              <a:ext cx="25200" cy="27000"/>
            </a:xfrm>
            <a:prstGeom prst="ellipse">
              <a:avLst/>
            </a:prstGeom>
            <a:solidFill>
              <a:srgbClr val="496d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3120" y="3402000"/>
              <a:ext cx="23760" cy="22320"/>
            </a:xfrm>
            <a:prstGeom prst="ellipse">
              <a:avLst/>
            </a:prstGeom>
            <a:solidFill>
              <a:srgbClr val="4b6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184560" y="3403440"/>
              <a:ext cx="19080" cy="19080"/>
            </a:xfrm>
            <a:prstGeom prst="ellipse">
              <a:avLst/>
            </a:prstGeom>
            <a:solidFill>
              <a:srgbClr val="4c7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186360" y="3403440"/>
              <a:ext cx="15840" cy="16200"/>
            </a:xfrm>
            <a:prstGeom prst="ellipse">
              <a:avLst/>
            </a:prstGeom>
            <a:solidFill>
              <a:srgbClr val="4e7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87800" y="3405240"/>
              <a:ext cx="11160" cy="12600"/>
            </a:xfrm>
            <a:prstGeom prst="ellipse">
              <a:avLst/>
            </a:prstGeom>
            <a:solidFill>
              <a:srgbClr val="507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189600" y="3406680"/>
              <a:ext cx="6120" cy="7920"/>
            </a:xfrm>
            <a:prstGeom prst="ellipse">
              <a:avLst/>
            </a:prstGeom>
            <a:solidFill>
              <a:srgbClr val="527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189600" y="3408480"/>
              <a:ext cx="4680" cy="2880"/>
            </a:xfrm>
            <a:prstGeom prst="ellipse">
              <a:avLst/>
            </a:prstGeom>
            <a:solidFill>
              <a:srgbClr val="5376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65760" y="3284640"/>
              <a:ext cx="376200" cy="3744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855320" y="3773520"/>
              <a:ext cx="27792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B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07000" y="3268800"/>
              <a:ext cx="3405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B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224760" y="3290760"/>
              <a:ext cx="3376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B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84400" y="5275440"/>
              <a:ext cx="42912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TU 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74200" y="2579760"/>
              <a:ext cx="46692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DU-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64800" y="1900080"/>
              <a:ext cx="2415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137080" y="2314440"/>
              <a:ext cx="22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45720" y="3857760"/>
              <a:ext cx="3438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74520" y="1778040"/>
              <a:ext cx="2642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S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522600" y="3397320"/>
              <a:ext cx="2703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25760" y="2997360"/>
              <a:ext cx="3970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TH 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831480" y="2313000"/>
              <a:ext cx="3160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U P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96040" y="544824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9000" y="50706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719000" y="46944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19000" y="431784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19000" y="3940200"/>
              <a:ext cx="16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42320" y="3564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42320" y="3187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42320" y="2809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642320" y="24336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42320" y="20574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642320" y="16794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642320" y="13032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42200" y="5640480"/>
              <a:ext cx="8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20400" y="5640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72760" y="5640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25480" y="5640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76400" y="5640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8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75840" y="56404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.0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726760" y="564048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1.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chinenba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fahrens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6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61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62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ktrotechn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68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6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70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1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68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68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4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12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nst. Ingenie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7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7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79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81" name="Text Box 11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2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2"/>
          <p:cNvSpPr/>
          <p:nvPr/>
        </p:nvSpPr>
        <p:spPr>
          <a:xfrm>
            <a:off x="0" y="26028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Mathematik, Natur-, Wirtschafts- und Sozialwissenschaften,</a:t>
            </a:r>
            <a:br>
              <a:rPr sz="2600"/>
            </a:br>
            <a:r>
              <a:rPr b="0" lang="en-US" sz="2600" spc="-1" strike="noStrike">
                <a:solidFill>
                  <a:srgbClr val="2a3d6d"/>
                </a:solidFill>
                <a:latin typeface="Verdana"/>
              </a:rPr>
              <a:t>Design, Sprach-, Ernährungs- und Informationswissenschaften an Fachhochschulen</a:t>
            </a:r>
            <a:endParaRPr b="0" lang="en-US" sz="26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ziehung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8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89" name="Rectangle 9"/>
          <p:cNvSpPr/>
          <p:nvPr/>
        </p:nvSpPr>
        <p:spPr>
          <a:xfrm>
            <a:off x="399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0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35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38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7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9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799" name="Rectangle 162"/>
          <p:cNvSpPr/>
          <p:nvPr/>
        </p:nvSpPr>
        <p:spPr>
          <a:xfrm>
            <a:off x="165960" y="352440"/>
            <a:ext cx="2836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mmunikationswiss.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0" name="Picture 16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6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2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0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06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7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12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12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0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Rectangle 12"/>
          <p:cNvSpPr/>
          <p:nvPr/>
        </p:nvSpPr>
        <p:spPr>
          <a:xfrm>
            <a:off x="0" y="1484280"/>
            <a:ext cx="9067680" cy="47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1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15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17" name="Text Box 11"/>
          <p:cNvSpPr/>
          <p:nvPr/>
        </p:nvSpPr>
        <p:spPr>
          <a:xfrm>
            <a:off x="826920" y="1798560"/>
            <a:ext cx="763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ser Lehr- und Forschungsbereich war nur 2004 vorhanden. Eine Darstellung im Analyseraster 2013 entfä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Picture 1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15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zialwes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2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2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7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37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27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29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31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2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7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74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5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529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Bibliothekswiss Dokumentation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5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54" name="Rectangle 6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56" name="Rectangle 123"/>
          <p:cNvSpPr/>
          <p:nvPr/>
        </p:nvSpPr>
        <p:spPr>
          <a:xfrm>
            <a:off x="157680" y="352440"/>
            <a:ext cx="2716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dien- u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mmunikationswiss.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7" name="Picture 12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12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3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38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39" name="Rectangle 6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0" name="Picture 7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633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636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ik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4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274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27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mie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5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7" descr=""/>
          <p:cNvPicPr/>
          <p:nvPr/>
        </p:nvPicPr>
        <p:blipFill>
          <a:blip r:embed="rId3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55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6" name="Picture 10" descr=""/>
          <p:cNvPicPr/>
          <p:nvPr/>
        </p:nvPicPr>
        <p:blipFill>
          <a:blip r:embed="rId4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7" name="Picture 325" descr=""/>
          <p:cNvPicPr/>
          <p:nvPr/>
        </p:nvPicPr>
        <p:blipFill>
          <a:blip r:embed="rId5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328" descr=""/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59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undheitswissenschaf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gemei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61" name="Picture 6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7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6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4" name="Picture 10" descr=""/>
          <p:cNvPicPr/>
          <p:nvPr/>
        </p:nvPicPr>
        <p:blipFill>
          <a:blip r:embed="rId3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165" descr=""/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168" descr=""/>
          <p:cNvPicPr/>
          <p:nvPr/>
        </p:nvPicPr>
        <p:blipFill>
          <a:blip r:embed="rId5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Verdana"/>
              </a:rPr>
              <a:t>Kunst_Kunstwiss (FH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69" name="Picture 6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7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71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2" name="Picture 10" descr=""/>
          <p:cNvPicPr/>
          <p:nvPr/>
        </p:nvPicPr>
        <p:blipFill>
          <a:blip r:embed="rId3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73" name="Rectangle 108"/>
          <p:cNvSpPr/>
          <p:nvPr/>
        </p:nvSpPr>
        <p:spPr>
          <a:xfrm>
            <a:off x="150480" y="352440"/>
            <a:ext cx="225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st, Kunst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 allgemein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4" name="Picture 109" descr=""/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113" descr=""/>
          <p:cNvPicPr/>
          <p:nvPr/>
        </p:nvPicPr>
        <p:blipFill>
          <a:blip r:embed="rId5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6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altung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878" name="Picture 6" descr=""/>
          <p:cNvPicPr/>
          <p:nvPr/>
        </p:nvPicPr>
        <p:blipFill>
          <a:blip r:embed="rId1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7" descr=""/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880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1" name="Picture 10" descr=""/>
          <p:cNvPicPr/>
          <p:nvPr/>
        </p:nvPicPr>
        <p:blipFill>
          <a:blip r:embed="rId3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438" descr=""/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442" descr=""/>
          <p:cNvPicPr/>
          <p:nvPr/>
        </p:nvPicPr>
        <p:blipFill>
          <a:blip r:embed="rId5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884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g. u. vergl. Literatur- u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6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63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4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588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9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3546720" y="2492280"/>
            <a:ext cx="33768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U B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philologie (Klassisc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ologie)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37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9748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9"/>
          <p:cNvSpPr/>
          <p:nvPr/>
        </p:nvSpPr>
        <p:spPr>
          <a:xfrm>
            <a:off x="3457080" y="628560"/>
            <a:ext cx="38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60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31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321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/>
          <p:cNvPicPr/>
          <p:nvPr/>
        </p:nvPicPr>
        <p:blipFill>
          <a:blip r:embed="rId11"/>
          <a:stretch/>
        </p:blipFill>
        <p:spPr>
          <a:xfrm>
            <a:off x="1511280" y="1150920"/>
            <a:ext cx="7732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33:29Z</dcterms:modified>
  <cp:revision>316</cp:revision>
  <dc:subject/>
  <dc:title>Folie 1</dc:title>
</cp:coreProperties>
</file>