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4"/>
          <p:cNvSpPr/>
          <p:nvPr/>
        </p:nvSpPr>
        <p:spPr>
          <a:xfrm>
            <a:off x="468360" y="1798560"/>
            <a:ext cx="82072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e „Vollstudienplätze“ lösen das Konzept der „Normstudienplätze“ aus dem Analyseraster 2006 ab. Sie orientieren sich an den gestuften Studienstrukturen und der vereinbarten Neustrukturierung des Curricularwert-Systems und sind daher nicht mit den Normstudienplätzen aus 2006 vergleichb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f eine Darstellung der Historie wird an dieser Stelle verzich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2"/>
          <p:cNvSpPr/>
          <p:nvPr/>
        </p:nvSpPr>
        <p:spPr>
          <a:xfrm>
            <a:off x="4063680" y="5948280"/>
            <a:ext cx="3057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lstudienplätz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und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3"/>
          <p:cNvSpPr/>
          <p:nvPr/>
        </p:nvSpPr>
        <p:spPr>
          <a:xfrm>
            <a:off x="169920" y="3022560"/>
            <a:ext cx="12380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8 und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728"/>
          <p:cNvSpPr/>
          <p:nvPr/>
        </p:nvSpPr>
        <p:spPr>
          <a:xfrm>
            <a:off x="3537720" y="993600"/>
            <a:ext cx="47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d6d"/>
                </a:solidFill>
                <a:latin typeface="Verdana"/>
              </a:rPr>
              <a:t>Historie Auslastung und Studienkapaz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3_AR_NRW_FG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3_AR_NRW_FG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3_AR_NRW_FG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3_AR_NRW_FG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hyperlink" Target="file:///01_AR_NRW_FG_Ueberblick.ppt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01_AR_NRW_FG_Ueberblick.ppt" TargetMode="External"/><Relationship Id="rId2" Type="http://schemas.openxmlformats.org/officeDocument/2006/relationships/image" Target="../media/image2.wmf"/><Relationship Id="rId3" Type="http://schemas.openxmlformats.org/officeDocument/2006/relationships/hyperlink" Target="file:///03_AR_NRW_FG_Historie_Tabelle.ppt" TargetMode="External"/><Relationship Id="rId4" Type="http://schemas.openxmlformats.org/officeDocument/2006/relationships/image" Target="../media/image3.wmf"/><Relationship Id="rId5" Type="http://schemas.openxmlformats.org/officeDocument/2006/relationships/hyperlink" Target="file:///01_AR_NRW_FG_Ueberblick.ppt" TargetMode="External"/><Relationship Id="rId6" Type="http://schemas.openxmlformats.org/officeDocument/2006/relationships/image" Target="../media/image4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rach- 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47" name="Picture 71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2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2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und Na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Kunst Musik Gestaltung und Sport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81"/>
          <p:cNvSpPr/>
          <p:nvPr/>
        </p:nvSpPr>
        <p:spPr>
          <a:xfrm>
            <a:off x="42840" y="628560"/>
            <a:ext cx="644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, Musik, Gestaltung und Spor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12000" y="-360"/>
            <a:ext cx="2665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WiSoErzAgErn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68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42840" y="352440"/>
            <a:ext cx="655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-, Wirtschafts-, Sozial-, Erziehungs-, Agrar- und Ernährung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- und 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4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022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G II (FH) 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1"/>
          <p:cNvSpPr/>
          <p:nvPr/>
        </p:nvSpPr>
        <p:spPr>
          <a:xfrm>
            <a:off x="42840" y="352440"/>
            <a:ext cx="792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, Natur- und Sozialwissenschaften, Design, Sprach-, Ernährungs- und Informationswissenschaft (F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511280" y="1150920"/>
            <a:ext cx="7694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5-23T15:11:34Z</dcterms:modified>
  <cp:revision>64</cp:revision>
  <dc:subject/>
  <dc:title>Folie 1</dc:title>
</cp:coreProperties>
</file>