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29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7.png" ContentType="image/png"/>
  <Override PartName="/ppt/media/image4.wmf" ContentType="image/x-wmf"/>
  <Override PartName="/ppt/media/image59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BCEA-C9F4-4280-B845-B79186064C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573-1833-43C0-8A27-5A26883BCA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8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5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0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5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0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4" name="Picture 272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3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3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6760" cy="24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5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7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022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6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1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6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9"/>
          <p:cNvSpPr/>
          <p:nvPr/>
        </p:nvSpPr>
        <p:spPr>
          <a:xfrm>
            <a:off x="826920" y="1798560"/>
            <a:ext cx="806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im Analyseraster 2010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4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9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4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0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9" name="Picture 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9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9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5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0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5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0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4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5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6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59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21960"/>
            <a:ext cx="500364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6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28472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6"/>
          <p:cNvSpPr/>
          <p:nvPr/>
        </p:nvSpPr>
        <p:spPr>
          <a:xfrm>
            <a:off x="149040" y="352440"/>
            <a:ext cx="261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nseh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960"/>
            <a:ext cx="450072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9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95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0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6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7200"/>
            <a:ext cx="4968720" cy="2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9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14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19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24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29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34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39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4" name="Picture 1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44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49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54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6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6"/>
          <p:cNvSpPr/>
          <p:nvPr/>
        </p:nvSpPr>
        <p:spPr>
          <a:xfrm>
            <a:off x="162720" y="352440"/>
            <a:ext cx="2919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36360"/>
            <a:ext cx="4923000" cy="2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83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88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/>
          <p:cNvPicPr/>
          <p:nvPr/>
        </p:nvPicPr>
        <p:blipFill>
          <a:blip r:embed="rId3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"/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719280" y="1798560"/>
            <a:ext cx="79135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154800" y="352440"/>
            <a:ext cx="279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6424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9135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98" name="Picture 1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4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9135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03" name="Picture 1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08" name="Picture 1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4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5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91352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6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17280"/>
            <a:ext cx="49230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91352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19" name="Picture 1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"/>
          <p:cNvPicPr/>
          <p:nvPr/>
        </p:nvPicPr>
        <p:blipFill>
          <a:blip r:embed="rId2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719280" y="1798560"/>
            <a:ext cx="791352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64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19280" y="1798560"/>
            <a:ext cx="7913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A.Krueger</cp:lastModifiedBy>
  <dcterms:modified xsi:type="dcterms:W3CDTF">2013-08-07T10:57:27Z</dcterms:modified>
  <cp:revision>257</cp:revision>
  <dc:subject/>
  <dc:title>Folie 1</dc:title>
</cp:coreProperties>
</file>