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6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9.png" ContentType="image/png"/>
  <Override PartName="/ppt/media/image2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5.png" ContentType="image/png"/>
  <Override PartName="/ppt/media/image26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56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1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0728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2a3d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1" marL="979560" indent="-43812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2" marL="143820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3" marL="198108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4" marL="2332080" indent="-36216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5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6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132000" y="6505560"/>
            <a:ext cx="468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2050920" y="6237360"/>
            <a:ext cx="7093080" cy="71280"/>
          </a:xfrm>
          <a:prstGeom prst="rect">
            <a:avLst/>
          </a:prstGeom>
          <a:solidFill>
            <a:srgbClr val="2a3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23"/>
          <p:cNvSpPr/>
          <p:nvPr/>
        </p:nvSpPr>
        <p:spPr>
          <a:xfrm>
            <a:off x="0" y="6297480"/>
            <a:ext cx="1468440" cy="306360"/>
          </a:xfrm>
          <a:custGeom>
            <a:avLst/>
            <a:gdLst>
              <a:gd name="textAreaLeft" fmla="*/ 19800 w 1468440"/>
              <a:gd name="textAreaRight" fmla="*/ 1448640 w 14684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103437" h="21600">
                <a:moveTo>
                  <a:pt x="0" y="0"/>
                </a:moveTo>
                <a:lnTo>
                  <a:pt x="103437" y="0"/>
                </a:lnTo>
                <a:lnTo>
                  <a:pt x="103437" y="21600"/>
                </a:lnTo>
                <a:lnTo>
                  <a:pt x="0" y="21600"/>
                </a:lnTo>
                <a:close/>
              </a:path>
              <a:path fill="lightenLess" w="103437" h="21600">
                <a:moveTo>
                  <a:pt x="0" y="0"/>
                </a:moveTo>
                <a:lnTo>
                  <a:pt x="103437" y="0"/>
                </a:lnTo>
                <a:lnTo>
                  <a:pt x="102037" y="1400"/>
                </a:lnTo>
                <a:lnTo>
                  <a:pt x="1400" y="1400"/>
                </a:lnTo>
                <a:close/>
              </a:path>
              <a:path fill="darken" w="103437" h="21600">
                <a:moveTo>
                  <a:pt x="103437" y="0"/>
                </a:moveTo>
                <a:lnTo>
                  <a:pt x="103437" y="21600"/>
                </a:lnTo>
                <a:lnTo>
                  <a:pt x="102037" y="20200"/>
                </a:lnTo>
                <a:lnTo>
                  <a:pt x="102037" y="1400"/>
                </a:lnTo>
                <a:close/>
              </a:path>
              <a:path fill="darkenLess" w="103437" h="21600">
                <a:moveTo>
                  <a:pt x="10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37" y="20200"/>
                </a:lnTo>
                <a:close/>
              </a:path>
              <a:path fill="lighten" w="10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en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6"/>
          <p:cNvSpPr/>
          <p:nvPr/>
        </p:nvSpPr>
        <p:spPr>
          <a:xfrm>
            <a:off x="2941920" y="5948280"/>
            <a:ext cx="532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rittmittel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 Wissenschaftsstelle im NRW-Fächervergleich 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8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0" descr="NRW_MIWF_RGB"/>
          <p:cNvPicPr/>
          <p:nvPr/>
        </p:nvPicPr>
        <p:blipFill>
          <a:blip r:embed="rId2"/>
          <a:stretch/>
        </p:blipFill>
        <p:spPr>
          <a:xfrm>
            <a:off x="7088040" y="6451560"/>
            <a:ext cx="158760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6_AR_NRW_LFB_LE_HS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6_AR_NRW_LFB_LE_HS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6_AR_NRW_LFB_LE_HS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6_AR_NRW_LFB_LE_HS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6_AR_NRW_LFB_LE_HS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6_AR_NRW_LFB_LE_HS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6_AR_NRW_LFB_LE_HS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6_AR_NRW_LFB_LE_HS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6_AR_NRW_LFB_LE_HS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6_AR_NRW_LFB_LE_HS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6_AR_NRW_LFB_LE_HS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6_AR_NRW_LFB_LE_HS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6_AR_NRW_LFB_LE_HS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6_AR_NRW_LFB_LE_HS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6_AR_NRW_LFB_LE_HS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6_AR_NRW_LFB_LE_HS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5.wmf"/><Relationship Id="rId6" Type="http://schemas.openxmlformats.org/officeDocument/2006/relationships/image" Target="../media/image4.wmf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6_AR_NRW_LFB_LE_HS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6_AR_NRW_LFB_LE_HS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6_AR_NRW_LFB_LE_HS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6_AR_NRW_LFB_LE_HS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6_AR_NRW_LFB_LE_HS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6_AR_NRW_LFB_LE_HS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9_AR_NRW_LFB_FE_HS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6_AR_NRW_LFB_LE_HS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3"/>
          <p:cNvSpPr/>
          <p:nvPr/>
        </p:nvSpPr>
        <p:spPr>
          <a:xfrm>
            <a:off x="0" y="892080"/>
            <a:ext cx="9134640" cy="534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a3d6d"/>
                </a:solidFill>
                <a:latin typeface="Verdana"/>
              </a:rPr>
              <a:t>Diese Datei</a:t>
            </a:r>
            <a:br>
              <a:rPr sz="2400"/>
            </a:br>
            <a:r>
              <a:rPr b="0" i="1" lang="en-US" sz="2400" spc="-1" strike="noStrike">
                <a:solidFill>
                  <a:srgbClr val="2a3d6d"/>
                </a:solidFill>
                <a:latin typeface="Verdana"/>
              </a:rPr>
              <a:t> enthält die Portfolien zum Forschungserfolg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a3d6d"/>
                </a:solidFill>
                <a:latin typeface="Verdana"/>
              </a:rPr>
              <a:t>Universitäten</a:t>
            </a:r>
            <a:r>
              <a:rPr b="0" i="1" lang="en-US" sz="2400" spc="-1" strike="noStrike">
                <a:solidFill>
                  <a:srgbClr val="2a3d6d"/>
                </a:solidFill>
                <a:latin typeface="Verdana"/>
              </a:rPr>
              <a:t> und </a:t>
            </a:r>
            <a:r>
              <a:rPr b="1" i="1" lang="en-US" sz="2400" spc="-1" strike="noStrike">
                <a:solidFill>
                  <a:srgbClr val="2a3d6d"/>
                </a:solidFill>
                <a:latin typeface="Verdana"/>
              </a:rPr>
              <a:t>Fachhochschu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0560" y="6380280"/>
            <a:ext cx="468180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Vorblatt Hochschulportfolien Forschungserfolg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6" name="Rectangle 35"/>
          <p:cNvSpPr/>
          <p:nvPr/>
        </p:nvSpPr>
        <p:spPr>
          <a:xfrm>
            <a:off x="0" y="5589720"/>
            <a:ext cx="155268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SH Köl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4"/>
          <p:cNvSpPr/>
          <p:nvPr/>
        </p:nvSpPr>
        <p:spPr>
          <a:xfrm>
            <a:off x="85680" y="2860560"/>
            <a:ext cx="162684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FG-Exzellenz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chaftsstel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 NRW-Fäche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gleich 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Münster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4"/>
          <p:cNvSpPr/>
          <p:nvPr/>
        </p:nvSpPr>
        <p:spPr>
          <a:xfrm>
            <a:off x="85680" y="2860560"/>
            <a:ext cx="162684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FG-Exzellenz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chaftsstel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 NRW-Fäche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gleich 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42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Paderbor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4"/>
          <p:cNvSpPr/>
          <p:nvPr/>
        </p:nvSpPr>
        <p:spPr>
          <a:xfrm>
            <a:off x="85680" y="2860560"/>
            <a:ext cx="162684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FG-Exzellenz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chaftsstel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 NRW-Fäche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gleich 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Sieg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4"/>
          <p:cNvSpPr/>
          <p:nvPr/>
        </p:nvSpPr>
        <p:spPr>
          <a:xfrm>
            <a:off x="85680" y="2860560"/>
            <a:ext cx="162684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FG-Exzellenz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chaftsstel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 NRW-Fäche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gleich 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Wuppertal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4"/>
          <p:cNvSpPr/>
          <p:nvPr/>
        </p:nvSpPr>
        <p:spPr>
          <a:xfrm>
            <a:off x="85680" y="2860560"/>
            <a:ext cx="162684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FG-Exzellenz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chaftsstel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 NRW-Fäche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gleich 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Aach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89640" y="2205000"/>
            <a:ext cx="159192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grammerfol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Forschung u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transf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 Wissenschafts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elle im NRW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ächervergle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Bielefeld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89640" y="2205000"/>
            <a:ext cx="159192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grammerfol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Forschung u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transf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 Wissenschafts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elle im NRW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ächervergle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S Bochum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89640" y="2205000"/>
            <a:ext cx="159192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grammerfol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Forschung u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transf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 Wissenschafts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elle im NRW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ächervergle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3592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S Bonn-Rhein-Sieg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89640" y="2205000"/>
            <a:ext cx="159192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grammerfol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Forschung u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transf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 Wissenschafts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elle im NRW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ächervergle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42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3016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Dortmund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89640" y="2205000"/>
            <a:ext cx="159192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grammerfol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Forschung u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transf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 Wissenschafts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elle im NRW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ächervergle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 Aach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8" name="Rectangle 1019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7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7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7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74"/>
          <p:cNvSpPr/>
          <p:nvPr/>
        </p:nvSpPr>
        <p:spPr>
          <a:xfrm>
            <a:off x="85680" y="2860560"/>
            <a:ext cx="162684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FG-Exzellenz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chaftsstel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 NRW-Fäche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gleich 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3449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Düsseldorf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89640" y="2205000"/>
            <a:ext cx="159192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grammerfol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Forschung u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transf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 Wissenschafts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elle im NRW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ächervergle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3449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Gelsenkirch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89640" y="2205000"/>
            <a:ext cx="159192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grammerfol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Forschung u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transf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 Wissenschafts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elle im NRW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ächervergle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42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Köl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9640" y="2205000"/>
            <a:ext cx="159192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grammerfol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Forschung u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transf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 Wissenschafts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elle im NRW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ächervergle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42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Münster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89640" y="2205000"/>
            <a:ext cx="159192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grammerfol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Forschung u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transf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 Wissenschafts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elle im NRW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ächervergle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42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3449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S Niederrhei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89640" y="2205000"/>
            <a:ext cx="159192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grammerfol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Forschung u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transf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 Wissenschafts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elle im NRW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ächervergle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3449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S Ostwestfalen-Lippe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89640" y="2205000"/>
            <a:ext cx="159192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grammerfol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Forschung u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transf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 Wissenschafts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elle im NRW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ächervergle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"/>
          <p:cNvPicPr/>
          <p:nvPr/>
        </p:nvPicPr>
        <p:blipFill>
          <a:blip r:embed="rId5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5" descr=""/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3449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Südwestfal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89640" y="2205000"/>
            <a:ext cx="159192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grammerfol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Forschung u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transf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 Wissenschafts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elle im NRW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ächervergle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1" descr=""/>
          <p:cNvPicPr/>
          <p:nvPr/>
        </p:nvPicPr>
        <p:blipFill>
          <a:blip r:embed="rId1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"/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"/>
          <p:cNvPicPr/>
          <p:nvPr/>
        </p:nvPicPr>
        <p:blipFill>
          <a:blip r:embed="rId3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"/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Bielefeld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4"/>
          <p:cNvSpPr/>
          <p:nvPr/>
        </p:nvSpPr>
        <p:spPr>
          <a:xfrm>
            <a:off x="85680" y="2860560"/>
            <a:ext cx="162684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FG-Exzellenz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chaftsstel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 NRW-Fäche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gleich 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Bochum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4"/>
          <p:cNvSpPr/>
          <p:nvPr/>
        </p:nvSpPr>
        <p:spPr>
          <a:xfrm>
            <a:off x="85680" y="2860560"/>
            <a:ext cx="162684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FG-Exzellenz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chaftsstel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 NRW-Fäche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gleich 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42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Bon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4"/>
          <p:cNvSpPr/>
          <p:nvPr/>
        </p:nvSpPr>
        <p:spPr>
          <a:xfrm>
            <a:off x="85680" y="2860560"/>
            <a:ext cx="162684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FG-Exzellenz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chaftsstel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 NRW-Fäche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gleich 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42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3521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U Dortmund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85680" y="2860560"/>
            <a:ext cx="162684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FG-Exzellenz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chaftsstel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 NRW-Fäche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gleich 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3521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Duisburg-Ess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4"/>
          <p:cNvSpPr/>
          <p:nvPr/>
        </p:nvSpPr>
        <p:spPr>
          <a:xfrm>
            <a:off x="85680" y="2860560"/>
            <a:ext cx="162684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FG-Exzellenz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chaftsstel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 NRW-Fäche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gleich 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42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Düsseldorf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4"/>
          <p:cNvSpPr/>
          <p:nvPr/>
        </p:nvSpPr>
        <p:spPr>
          <a:xfrm>
            <a:off x="85680" y="2860560"/>
            <a:ext cx="162684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FG-Exzellenz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chaftsstel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 NRW-Fäche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gleich 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42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Köl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3774960" y="628560"/>
            <a:ext cx="433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4"/>
          <p:cNvSpPr/>
          <p:nvPr/>
        </p:nvSpPr>
        <p:spPr>
          <a:xfrm>
            <a:off x="85680" y="2860560"/>
            <a:ext cx="162684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FG-Exzellenz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chaftsstel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 NRW-Fäche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gleich 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42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2:21:56Z</dcterms:created>
  <dc:creator>zwiorek</dc:creator>
  <dc:description/>
  <dc:language>en-US</dc:language>
  <cp:lastModifiedBy>A.Krueger</cp:lastModifiedBy>
  <dcterms:modified xsi:type="dcterms:W3CDTF">2013-06-20T12:06:34Z</dcterms:modified>
  <cp:revision>144</cp:revision>
  <dc:subject/>
  <dc:title>Folie 1</dc:title>
</cp:coreProperties>
</file>