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6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3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472920" y="5721480"/>
            <a:ext cx="425736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mittelter relativ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schungserfol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010+20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0" y="2646360"/>
            <a:ext cx="16923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mittel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lativ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hrerfolg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0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9_AR_NRW_LFB_FE_HS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7_AR_NRW_LFB_LE_HS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892080"/>
            <a:ext cx="913464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Diese Datei</a:t>
            </a:r>
            <a:br>
              <a:rPr sz="2400"/>
            </a:b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enthält die Portfolien z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Mittleren Gesamterfolg in Lehre und Fors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Universitäten</a:t>
            </a: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 und</a:t>
            </a: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 Fachhochsch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6380280"/>
            <a:ext cx="46818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Vorblatt Hochschulportfolien mittlerer Gesamterfolg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0" y="5797440"/>
            <a:ext cx="154764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524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5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5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232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291480" y="628560"/>
            <a:ext cx="53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</a:t>
            </a:r>
            <a:r>
              <a:rPr b="1" lang="en-US" sz="1100" spc="-1" strike="noStrike">
                <a:solidFill>
                  <a:srgbClr val="2a3d6d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7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7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8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9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7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8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92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nn-Rhein-Sieg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38580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5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016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8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8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" name="Rectangle 1072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7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1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2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6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6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Gelsenkir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7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40" y="315360"/>
            <a:ext cx="34495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stwestfalen-Lippe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4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41" descr=""/>
          <p:cNvPicPr/>
          <p:nvPr/>
        </p:nvPicPr>
        <p:blipFill>
          <a:blip r:embed="rId7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Südwestfal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64" descr=""/>
          <p:cNvPicPr/>
          <p:nvPr/>
        </p:nvPicPr>
        <p:blipFill>
          <a:blip r:embed="rId3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5" descr=""/>
          <p:cNvPicPr/>
          <p:nvPr/>
        </p:nvPicPr>
        <p:blipFill>
          <a:blip r:embed="rId4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628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6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135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7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7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232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2657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4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4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21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uisburg-Ess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9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5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5232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295440" y="628560"/>
            <a:ext cx="541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Mittlerer Gesamterfolg in Lehre und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86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25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4"/>
          <p:cNvSpPr/>
          <p:nvPr/>
        </p:nvSpPr>
        <p:spPr>
          <a:xfrm>
            <a:off x="1511280" y="934920"/>
            <a:ext cx="7759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0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4184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0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145120"/>
            <a:ext cx="1490760" cy="36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619280" y="1079640"/>
            <a:ext cx="7551720" cy="470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8-08T09:19:11Z</dcterms:modified>
  <cp:revision>160</cp:revision>
  <dc:subject/>
  <dc:title>Folie 1</dc:title>
</cp:coreProperties>
</file>